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A7D-A271-42F1-86FB-EB20F8E4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88E-74D3-4E3D-BE9A-CAF1958B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4B9-FFE6-4968-916D-178B14A4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CEE-E04C-4EA8-A4C7-2AC0551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0BE-1A8C-42DC-B654-7309919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191-5B7D-4DB7-BF17-FB634252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61F-4B12-479F-9AE8-F713E113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B0F-4B1D-40E4-BA05-A29D1B09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06A-993B-4D74-87BF-5E8AEA0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19C-7F29-48BA-9B75-A4AA855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0FA-4BC5-458C-88DA-95A77FF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FF8-D662-469F-A608-B162637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399D-4707-4BBF-ABD0-44AFEB70CD0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 DOWÓDCÓW OSP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 4: Działania ratownictwa na drod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084280"/>
            <a:ext cx="327636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Robert Łaz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trudnienia w czasie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8567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montowywanie samochodu w  strefach kontrolowanego zgniotu wymaga zastosowania narzędzi o większych siłach pracy i wydłuża czas niezbędny do uwolnienia poszkodowa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5373720"/>
            <a:ext cx="8159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ytuowanie stref kontrolowanego zgniotu w samochod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strefy kontrolowanego zgniotu"/>
          <p:cNvPicPr/>
          <p:nvPr/>
        </p:nvPicPr>
        <p:blipFill>
          <a:blip r:embed="rId1"/>
          <a:stretch/>
        </p:blipFill>
        <p:spPr>
          <a:xfrm>
            <a:off x="1619280" y="2852640"/>
            <a:ext cx="555156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trudnienia w czasie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 boczne i usztywniające to elementy wykonane ze stali mikrostopowej i borowej, posiadające dużą wytrzymałość mechanicz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graniczają odkształcenia kabiny pasażerskiej podczas koliz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280" y="5950080"/>
            <a:ext cx="5616360" cy="49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 boczne i usztywniaj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wzmocnienia boczne i usztywniające"/>
          <p:cNvPicPr/>
          <p:nvPr/>
        </p:nvPicPr>
        <p:blipFill>
          <a:blip r:embed="rId1"/>
          <a:stretch/>
        </p:blipFill>
        <p:spPr>
          <a:xfrm>
            <a:off x="1547640" y="3284640"/>
            <a:ext cx="5694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trudnienia w czasie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7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 drzwi w postaci prętów mogą sprawiać duże trudności w czasie wyważania drzwi samochodów jeżeli na skutek wypadku pręty zostały wbite w słupki pojaz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50920" y="5733720"/>
            <a:ext cx="5545440" cy="5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 boczne drzwi samoch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wzmocnienia boczne drzwi"/>
          <p:cNvPicPr/>
          <p:nvPr/>
        </p:nvPicPr>
        <p:blipFill>
          <a:blip r:embed="rId1"/>
          <a:stretch/>
        </p:blipFill>
        <p:spPr>
          <a:xfrm>
            <a:off x="1258920" y="3213000"/>
            <a:ext cx="62006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trudnienia w czasie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, które w razie wypadku powodują wsuwanie się kół i silnika pod samochód, chroniąc tym samym przedział pasażerski, mogą sprawiać istotne problemy przy odginaniu deski rozdzielcz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5300640"/>
            <a:ext cx="49687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mocnienia słupka B powodujące odchylanie kół przedn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wzmocnienie słupka B"/>
          <p:cNvPicPr/>
          <p:nvPr/>
        </p:nvPicPr>
        <p:blipFill>
          <a:blip r:embed="rId1"/>
          <a:stretch/>
        </p:blipFill>
        <p:spPr>
          <a:xfrm>
            <a:off x="4284720" y="1773360"/>
            <a:ext cx="3427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trudnienia w czasie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utrudnień w czasie akcji ratownictwa drogowego, nie wynikających z budowy pojazdów możemy zaliczy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cyfikę terenu akcji (pochyłości, skarpy, mosty,tunel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unki pogodowe (wiatr, deszcz, oblodzeni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tronni obserwatorzy ( gapie, panika, medi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aba widoczn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akcji ratowni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1640" y="1600200"/>
            <a:ext cx="633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czasie akcji ratownictwa drogowego możemy wyróżnić następujące eta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jazd i ustawienie pojazdów ratownicz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znanie sytuacj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bezpieczenie miejsca zdarz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ratownic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kwidacja innych zagroż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ończenie działa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609480" y="0"/>
            <a:ext cx="9982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sady bezpiecznego prowadzenia działań ratowni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8560" y="68580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ratownicze powinny być wykonywane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zachowaniem poniższych zas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azdy należy rozmontowywać tylko w niezbędnym zakres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montowywanie nie powinno powodować zmian położenia  poszkodowa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lub nieprawidłowe wykonanie stabilizacji pojazdu może prowadzić do załamania elementów konstrukcyjnych pojazd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 przystąpieniem do usuwania drzwi pojazdu należy usunąć szyb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uwając drzwi przednie należy pamiętać o zamknięciu drzwi tylnych, co ma na celu wzmocnienie konstrukcji pojazd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odciąganiu kolumny kierowniczej należy pamiętać o wzmocnieniu (belkami, deskami) przodu samochodu i deski rozdzielcz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sady bezpiecznego prowadzenia działań ratownicz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854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ratownicze powinny być wykonywane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zachowaniem poniższych zas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ch po odgięciu należy zabezpieczyć poprzez przywiązanie go linką do haka lub zderzak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cinane elementy gromadzić w jednym miejsc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lementy konstrukcji samochodu w miejscach cięć zabezpieczyć przed możliwością zranienia ratowników  lub poszkodowa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śli na miejscu akcji są ratownicy medyczni wszystkie decyzje w miarę możliwości należy konsultować z tymi służb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rządzenia mogą obsługiwać tylko odpowiednio przeszkoleni ratowni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nie z urządzeń może się odbywać tylko zgodnie z ich instrukcją obsłu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k obsługujący urządzenia powinien być wyposażony w środki ochrony osobist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używać uszkodzonych urządz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półdziałanie z innymi służ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15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dania policji w czasie wypadku drogow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ruchem drogowy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znaczenie objazdów wokół miejsca zdarz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znakowanie miejsca zdarz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bezpieczenie dróg dojazdowych do miejsca zdarz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unięcie osób postronnych utrudniających prowadzenie działań ratownicz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bezpieczenie przed kradzieżą mienia na miejscu zdarz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półdziałanie z innymi służ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dania służb medycznych w czasie wypadku drogow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bezpieczenie medyczne działań ratownicz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enie pomocy medycznej poszkodowany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transportu dla poszkodowanych do szpit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5700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oczesne konstrukcje szkieletu nadwozia, wymuszają podczas cięcia stosowanie nożyc o większej sile tnącej i lepszej chwyt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66520" y="4952880"/>
            <a:ext cx="4969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e słupków samochodow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słupki samochodowe"/>
          <p:cNvPicPr/>
          <p:nvPr/>
        </p:nvPicPr>
        <p:blipFill>
          <a:blip r:embed="rId1"/>
          <a:stretch/>
        </p:blipFill>
        <p:spPr>
          <a:xfrm>
            <a:off x="1187280" y="3141720"/>
            <a:ext cx="67755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półdziałanie z innymi służ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dania administracji samorządowej w czasie katastrof drogowych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pojazdów celem przetransportowania większej ilości poszkodowa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środków pierwszej potrzeby (ubrania, koce, żywność) dla poszkodowa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bezpiecznego miejsca lokalizacji osób poszkodowa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ciężkiego sprzętu drogowego jak np.: cysterny, dźwigi drog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14799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ctwo techniczne podczas wypadków z udziałem samochodów ciężarowych. Tłumaczenie: J.Kielin. Fundacja Edukacja i Technika Ratownictwa. Warszawa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. Schroeder: Wypadki w komunikacji drogowej. Fundacja Edukacja i Technika Ratownic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i Administracji z dnia 31 lipca 2001 roku w sprawie szczegółowych zasad kierowania i współdziałania jednostek ochrony ppoż. biorących udział w działaniu ratowniczym. Dz. U. Nr 82, poz. 895            z  2001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557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rris B.: Techniki ratownictwa drogowego Holmatro. Podręcznik technik ratownictwa drogowego i zastosowanie narzędzi ratowniczych. Delta Sernice, Zielonk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kosch U.: Poduszki gazowe i napinacze pasów. WKiŁ, Warszawa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lański R.: Ratownicza hydraulika siłowa. SA PSP,      Kraków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539640" y="234936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zagrożeń od  instalacji elektrycznej samochodu zalicz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ażenie prądem elektryczny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żar na skutek zjawiska zwarcia elektryczn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zkodzenie instalacji elektrycznej może być przyczyną zadziałanie poduszek powietrznych, napinaczy pasów lub zatrzaśnięcia zamków drzwi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24000" y="57340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łożenie przewodów paliwow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estrzeni wewnętrznej prog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przewody paliwowe wew"/>
          <p:cNvPicPr/>
          <p:nvPr/>
        </p:nvPicPr>
        <p:blipFill>
          <a:blip r:embed="rId1"/>
          <a:stretch/>
        </p:blipFill>
        <p:spPr>
          <a:xfrm>
            <a:off x="3492360" y="3500280"/>
            <a:ext cx="5123160" cy="2124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7280" y="1052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zagrożeń od układu zasilania i smarowania zalicz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żar na skutek rozszczelnienia i wycieku paliwa lub olej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rozgrzane elementy silni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buch na skutek nagromadzenia dużej ilości pali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b podgrzewania i rozerwania zbiornika paliw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grożenie dla środowiska w wynik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cieku paliwa lub olej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1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lama olejowa na jezdn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nacznie zmniejsz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czepność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 podłoż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940360" y="5300280"/>
            <a:ext cx="26352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zut mieszani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panu-butan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Rysunek1"/>
          <p:cNvPicPr/>
          <p:nvPr/>
        </p:nvPicPr>
        <p:blipFill>
          <a:blip r:embed="rId1"/>
          <a:stretch/>
        </p:blipFill>
        <p:spPr>
          <a:xfrm>
            <a:off x="755640" y="4581360"/>
            <a:ext cx="4788000" cy="1943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856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zagrożeń od instalacji gazowych zalicz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erwanie zbiornika na skutek zgniec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buch uwolnionej mieszaniny propanu-buta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ypadku rozszczelnienia zbiornika lub instalacji gazowej może nastąpić wypływ ciekłego lub gazowego propanu-buta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y propanu-butanu są cięższe od powietrza i mogą stwarzać zagrożenie pożarowe przedostając się do pobliskich rowów i zagłębie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rzut mieszaniny propanu-butanu ze zbiornika instalacji na skutek przekroczenia ciśnienia granicznego (około 20-25 atm.). Wyrzut mieszaniny może tworzyć płomień o długości około 6 metr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sowanie układów hybrydowych powoduje kumulację zagrożeń związanych z instalacją elektryczną pojazdu o napięciu osiągającym wartość nawet do 500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0560" y="6165360"/>
            <a:ext cx="5977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kład hybrydowy w samochodz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instalacja hybrydowa"/>
          <p:cNvPicPr/>
          <p:nvPr/>
        </p:nvPicPr>
        <p:blipFill>
          <a:blip r:embed="rId1"/>
          <a:stretch/>
        </p:blipFill>
        <p:spPr>
          <a:xfrm>
            <a:off x="1619280" y="2349360"/>
            <a:ext cx="64087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71640" y="6021360"/>
            <a:ext cx="561024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 poduszek i kurtyn powietrznych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oduszki powietrzne"/>
          <p:cNvPicPr/>
          <p:nvPr/>
        </p:nvPicPr>
        <p:blipFill>
          <a:blip r:embed="rId1"/>
          <a:stretch/>
        </p:blipFill>
        <p:spPr>
          <a:xfrm>
            <a:off x="2209680" y="3733920"/>
            <a:ext cx="5267520" cy="2184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zagrożeń od systemu poduszek powietrznych zalicza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rzelenie poduszki w trakcie działań ratownicz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podziewane zadziałanie poduszek powietrznych może być przyczyną uszkodzenia narządów słuch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padkowe wyzwolenie nie uruchomionych podczas kolizji poduszek, może być niebezpieczne dla poszkodow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ratowni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412640"/>
            <a:ext cx="72104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bezpieczenie poduszki powietrznej kierowcy przed przypadkowym zadziałaniem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zabezpieczenie poduszki powietrznej"/>
          <p:cNvPicPr/>
          <p:nvPr/>
        </p:nvPicPr>
        <p:blipFill>
          <a:blip r:embed="rId1"/>
          <a:stretch/>
        </p:blipFill>
        <p:spPr>
          <a:xfrm>
            <a:off x="2627280" y="299736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zagroż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63416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pinacze, które zadziałają przypadkowo w trakcie działań ratowniczych mogą spowodować dodatkowe obrażenia u poszkodowanych.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87280" y="5876640"/>
            <a:ext cx="757584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sada działania napinaczy pasów bezpieczeńst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napinacze pasów bezp"/>
          <p:cNvPicPr/>
          <p:nvPr/>
        </p:nvPicPr>
        <p:blipFill>
          <a:blip r:embed="rId1"/>
          <a:stretch/>
        </p:blipFill>
        <p:spPr>
          <a:xfrm>
            <a:off x="2268360" y="3213000"/>
            <a:ext cx="4392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7:56:58Z</dcterms:created>
  <dc:creator>Marcin Buczek</dc:creator>
  <dc:description/>
  <dc:language>en-US</dc:language>
  <cp:lastModifiedBy>Jacek Dudek</cp:lastModifiedBy>
  <dcterms:modified xsi:type="dcterms:W3CDTF">2020-12-11T10:41:32Z</dcterms:modified>
  <cp:revision>25</cp:revision>
  <dc:subject/>
  <dc:title>SZKOLENIE  DOWÓDCÓW OSP    TEMAT 4: Działania ratownictwa na drodze</dc:title>
</cp:coreProperties>
</file>