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AAA4-8F0B-40D1-A607-32ED3E9A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9657-A55D-4796-86B0-F3E5B4A7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78A6-ECD4-4205-A898-9E1FD2E4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4F0C-51A3-4B7F-AFBF-940704BFB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7FC4-EDCC-43B5-A028-422396F4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7950-0B5A-4C30-9EAB-A891E90A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1A22-912A-4ACC-AAC3-C003FDF9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FEB0-7A1B-4BF9-BF85-3C0C8AD5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ED9C-4CB4-4D65-95AF-AF846451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52EE-AEF3-4026-AF32-02ADC115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C3CB-D138-4B6F-8D0F-FFFC6A94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A493-94DE-497E-A733-C1369C50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9C04-6767-4012-8235-DF9DAAA29036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SZKOLENIE  DOWÓDCÓW OSP</a:t>
            </a:r>
            <a:br>
              <a:rPr sz="3200"/>
            </a:br>
            <a:br>
              <a:rPr sz="32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TEMAT 2: Kierowanie działaniami gaśniczymi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300280"/>
            <a:ext cx="424800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utor: Robert Łaza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036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ierowanie interwencyjne może przejąć również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czelnik ochotniczej straży pożarnej, właściwej dla miejsc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darzenia, jeżeli w działaniu ratowniczym biorą udział tylko ochotnicze straże pożarne włączone do system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) komendant, kierownik, szef bądź inny kierujący, jeżeli             w działaniu ratowniczym biorą udział tylko siły i środk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dnostki ochrony przeciwpożarowej włączonej do system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0" y="6206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sady Przejmowania Kierowania Działaniem Ratowniczy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539640" y="234936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304920" y="152280"/>
            <a:ext cx="8458200" cy="67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 u="sng">
                <a:solidFill>
                  <a:srgbClr val="000000"/>
                </a:solidFill>
                <a:uFillTx/>
                <a:latin typeface="Arial"/>
              </a:rPr>
              <a:t>Wykorzystano</a:t>
            </a:r>
            <a:r>
              <a:rPr b="0" lang="pl-PL" sz="3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porządzenie Ministra Spraw Wewnętrznych                  i Administracji z dnia 31 lipca 2001 roku w sprawie szczegółowych zasad kierowania i współdziałania jednostek ochrony przeciwpożarowej biorących udział w działaniu ratowniczym. Dz. U. Nr 82, poz. 895 z  2001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porządzenie Ministra Spraw Wewnętrznych                   i Administracji z dnia 29 grudnia 1999 roku w sprawie szczegółowych zasad organizacji krajowego systemu ratowniczo-gaśniczego. Dz. U. Nr 111, poz. 1311 z 1999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porządzenie Ministra Spraw Wewnętrznych                   i Administracji z dnia 4 lipca 1992 roku w sprawie zakresu i trybu korzystania z praw przez kierującego działaniem ratowniczym. Dz. U. Nr 54, poz. 259 z  1992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deks Kar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DZIĘKUJĘ ZA UWAG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Typy kierow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809280"/>
            <a:ext cx="8964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Typy kierowania w czasie działania ratowniczego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interwencyjn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- realizowany w strefie zagrożenia lub bezpośrednich działań ratowniczych; kierowaniu interwencyjnemu podlegają siły nie przekraczające wielkością jednej kompani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taktyczn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 realizowany na granicy strefy zagrożenia lub poza nią w celu wykonania przyjętej taktyki lub określonej strategii oraz nadzoru nad kierowaniem interwencyjnym; kierowaniu taktycznemu podlegają siły nie przekraczające wielkością jednego batalion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trategiczn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 realizowany w celu określenia i przyjęcia niezbędnej strategii w likwidowaniu zagrożenia oraz nadzoru nad kierowaniem taktycznym; kierowaniu strategicznemu podlegają siły wojewódzkich brygad odwodowych albo siły przekraczające wielkością jeden batal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Kierowanie Interwencyjne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ierowanie interwencyjne polega w szczególności 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taleniu rodzaju zagrożeni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dzielaniu zadań dla pododdziałó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) ustaleniu sposobów i metod poszukiwania poszkodowanych oraz niesienia im pomocy medycznej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) ustaleniu sposobów i metod ewakuacji poszkodowanyc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) wyznaczeniu i wydzieleniu strefy bezpośrednich działań ratowniczyc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) planowaniu rozmieszczenia sprzętu ratowniczeg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) analizowaniu czasu pracy poszczególnych zespołó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8964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) nadzorowaniu skuteczności działania ratowniczeg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) organizowaniu łączności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) analizowaniu zużycia sprzętu i środków gaśniczyc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) współdziałaniu z lekarzem - koordynatorem medycznych działań ratowniczyc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) wzywaniu niezbędnych sił i środkó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) zorganizowaniu wsparcia logistyczneg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) wydzieleniu strefy zagroże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404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Kierowanie Interwencyj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Uprawnienia Kierującego Akcją Ratowniczą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964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ierujący akcją ratowniczą lub innym działaniem ratowniczym prowadzonym przez jednostki ochrony przeciwpożarowej uprawniony jest do zarządzen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wakuacji ludzi z rejonu objętego działaniem ratowniczym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w przypadku zagrożenia życia i zdrowi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kazu przebywania w rejonie objętym działani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atowniczym osób postronnyc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wakuacji mieni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ac wyburzeniowych oraz rozbiórkowyc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strzymania komunikacji w ruchu lądowy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jęcia w użytkowanie, na czas niezbędny do działani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atowniczego, pojazdów, środków technicznych i inny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dmiotów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ierujący działaniem ratowniczym jest uprawniony do żądani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niezbędnej pomocy od instytucji państwowych, jednostek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gospodarczych i organizacji społecznych oraz od obywate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l-PL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Stan Wyższej Konieczności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3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ie popełnia przestępstwa, kto działa w celu uchylenia bezpośredniego niebezpieczeństwa grożącego dobru społecznemu lub jakiemukolwiek dobru jednostki, jeżeli niebezpieczeństwa nie można inaczej uniknąć, a dobro poświęcone nie przedstawia wartości oczywiście większej, niż dobro ratowane"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sady Przejmowania Kierowania Działaniem Ratowniczy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168560"/>
            <a:ext cx="90360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520"/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zy przejmowaniu kierowania działaniem ratowniczym obowiązują następujące zasa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520"/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520"/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ierowanie działaniem ratowniczym rozpoczyna się z chwilą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przybycia na miejsce zdarzen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520"/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ierowanie działaniem ratowniczym są obowiązani przejąć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w kolejnośc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520"/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) dowódca zastęp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520"/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) dowódca sekcj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520"/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) dowódca pluton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520"/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) strażak uprawniony przez komendanta, kierownika lub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520"/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zefa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dnostk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520"/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) strażak uprawniony do kierowania taktyczn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520"/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773000"/>
            <a:ext cx="885672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ierującym jest pierwszy przybyły na miejsce zdarzen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ódca z jednostk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przypadku przybycia jednostek ochotniczych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zawodowych, obowiązany do przejęcia kierowania j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ierujący z jednostki zawodow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przypadku przybycia na miejsce zdarzenia dowódców t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amej hierarchii, obowiązany do przejęcia kierowania j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ódca z jednostki, dla której miejsce zdarzenia stanow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eren własnego działa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765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sady Przejmowania Kierowania Działaniem Ratowniczy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41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sady Przejmowania Kierowania Działaniem Ratowniczy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1676520"/>
            <a:ext cx="9036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ierowanie interwencyjne są obowiązani przejąć w kolejnośc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prawniony dowódca z jednostki ochrony przeciwpożarowej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łączonej do systemu, dla której miejsce zdarzenia stanowi teren własnego działani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)  strażak wyznaczony przez komendanta jednostki ochrony przeciwpożarowej włączonej do system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) strażak wyznaczony przez komendanta powiatowego (miejskieg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20:33:29Z</dcterms:created>
  <dc:creator>Marcin Buczek</dc:creator>
  <dc:description/>
  <dc:language>en-US</dc:language>
  <cp:lastModifiedBy>Jacek Dudek</cp:lastModifiedBy>
  <dcterms:modified xsi:type="dcterms:W3CDTF">2020-12-11T10:40:24Z</dcterms:modified>
  <cp:revision>25</cp:revision>
  <dc:subject/>
  <dc:title>SZKOLENIE  DOWÓDCÓW OSP   TEMAT 2: Kierowanie działaniami gaśniczymi </dc:title>
</cp:coreProperties>
</file>