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2B1A-1E0D-4BFB-B9F2-6221C4117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DE9E-79BB-4891-89EA-0B5F72DBF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EF62-5BF3-4F56-9FB9-67AD66E23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CDA6-C867-41C4-AA17-5912549A4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E304-4124-43C8-BAE7-8D0538894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9037-5739-42D7-B0A6-576F80869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ED9C-674A-46CD-9655-9832C406E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F6CC-1285-44D5-AB3E-9C39DEA88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4B9E-77F2-40D5-A637-2CC101CA9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D9F2-CD69-4FE1-B25F-AA012AF0C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9045-5E02-4C5B-AA3B-26B960EA3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6A75-60AB-4C68-8CC8-A59A48439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FDA95-3CBA-40C9-ACF3-5D883462EF0B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250920" y="1557360"/>
            <a:ext cx="860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SZKOLENIE DOWÓDCÓW OSP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539640" y="2924280"/>
            <a:ext cx="8156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TEMAT 8:  Organizacja i funkcjonowanie Jednostek Operacyjno-Technicznych OSP (JOT OS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394560" y="5514840"/>
            <a:ext cx="37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Autor: Stanisław Mikul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179280" y="1737720"/>
            <a:ext cx="8713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JOT kieruje jednoosobowo naczelnik OSP przy pomocy dowódców niższego szczebla: z-cy naczelnika, dowódcy plutonu, dowódcy sekcji. W czasie akcji ratowniczych naczelnik dowodzi działaniami JOT przy pomocy dowódców zastępów (załóg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Naczelnik OSP ponosi odpowiedzialność statutową za: przygotowanie do działań, gotowość bojową i sprawność JOT, a także zapewnienie bezpieczeństwa strażaków ratowników OSP.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179280" y="768240"/>
            <a:ext cx="8425080" cy="52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Do obowiązków naczelnika należ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84"/>
              <a:buBlip>
                <a:blip r:embed="rId1"/>
              </a:buBlip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kierowanie całokształtem działalności JOT i nadzór nad jej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gotowością bojową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84"/>
              <a:buBlip>
                <a:blip r:embed="rId2"/>
              </a:buBlip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ypowanie członków czynnych do składu osobowego JO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84"/>
              <a:buBlip>
                <a:blip r:embed="rId3"/>
              </a:buBlip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ysponowanie siłami i środkami JO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84"/>
              <a:buBlip>
                <a:blip r:embed="rId4"/>
              </a:buBlip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owodzenie załogami JOT w czasie działań ratowniczych i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zabezpieczających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84"/>
              <a:buBlip>
                <a:blip r:embed="rId5"/>
              </a:buBlip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spółdziałanie na przydzielonym odcinku działań z innymi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łużbami i jednostkami ratowniczymi uczestniczącymi 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kcji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84"/>
              <a:buBlip>
                <a:blip r:embed="rId6"/>
              </a:buBlip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apewnienie zgłoszenia do właściwego ośrod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yspozycyjnego każdego wyjazdu i powrotu załogi JO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4"/>
          <p:cNvSpPr/>
          <p:nvPr/>
        </p:nvSpPr>
        <p:spPr>
          <a:xfrm>
            <a:off x="324000" y="981000"/>
            <a:ext cx="8353440" cy="52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Obowiązki naczelnika c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84"/>
              <a:buBlip>
                <a:blip r:embed="rId1"/>
              </a:buBlip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opilnowanie sporządzenia wymaganej dokumentacji 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działu JOT w akcjach ratowniczych i zabezpieczających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84"/>
              <a:buBlip>
                <a:blip r:embed="rId2"/>
              </a:buBlip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apewnienie natychmiastowego zgłaszania 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łaściwego ośrodka dyspozycyjnego niezdolnoś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o działań załogi JO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84"/>
              <a:buBlip>
                <a:blip r:embed="rId3"/>
              </a:buBlip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nadzorowanie sprawności oraz prawidłowej eksploatacj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 konserwacji sprzętu i wyposażenia JOT zgodnie z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ymogami określonymi w instrukcjach i inny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okumentach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84"/>
              <a:buBlip>
                <a:blip r:embed="rId4"/>
              </a:buBlip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lanowanie szkolenia JOT oraz nadzór nad realizacj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lanów i zajęć szkoleniowych; udział bezpośredni 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zkoleniu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250920" y="964440"/>
            <a:ext cx="856908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Obowiązki naczelnika c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nadzór nad właściwym zabezpieczeniem sprzętu 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yposażenia JOT przed kradzieżą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84"/>
              <a:buBlip>
                <a:blip r:embed="rId2"/>
              </a:buBlip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trzymywanie dyscypliny organizacyjnej oraz dbanie 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łaściwą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tmosferę i koleżeństwo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84"/>
              <a:buBlip>
                <a:blip r:embed="rId3"/>
              </a:buBlip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nadzór nad przestrzeganiem bhp oraz badaniami lekarski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ratowników OSP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84"/>
              <a:buBlip>
                <a:blip r:embed="rId4"/>
              </a:buBlip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nformowanie Zarządu OSP o problemach organizacyjny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 sprzętowych JOT oraz wnioskowanie sposobu i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sunięci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84"/>
              <a:buBlip>
                <a:blip r:embed="rId5"/>
              </a:buBlip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okumentowanie działalności JOT w książce naczeln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SP i innych wymaganych dokumenta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395280" y="761040"/>
            <a:ext cx="8353440" cy="53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Do obowiązków d-cy zastępu (załogi) należ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84"/>
              <a:buBlip>
                <a:blip r:embed="rId1"/>
              </a:buBlip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ykonywanie rozkazów i poleceń naczelnika OSP, jego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zastępcy, dowódcy plutonu i dowódcy sekcji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84"/>
              <a:buBlip>
                <a:blip r:embed="rId2"/>
              </a:buBlip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prawdzanie sprawności sprzętu i wyposaże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bsługiwanego przez załogę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84"/>
              <a:buBlip>
                <a:blip r:embed="rId3"/>
              </a:buBlip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głaszanie do ośrodka dyspozycyjnego wyjazdu załogi 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kcji oraz na ćwiczenia i inne zajęci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84"/>
              <a:buBlip>
                <a:blip r:embed="rId4"/>
              </a:buBlip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nadzór nad bezpiecznym dojazdem i natychmiastowe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powiadomienie ośrodka dyspozycyjnego o zaistniały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ypadku lub innej przeszkodzie w dotarciu na miejs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kcji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84"/>
              <a:buBlip>
                <a:blip r:embed="rId5"/>
              </a:buBlip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ameldowanie kierującemu akcją przybycia zastępu 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odaniem wyposażenia sprzętowego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324000" y="1268280"/>
            <a:ext cx="8135640" cy="41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Obowiązki d-cy zastępu c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84"/>
              <a:buBlip>
                <a:blip r:embed="rId1"/>
              </a:buBlip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owodzenie na przydzielonym odcinku w sposó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apewniający wykonanie powierzonego prz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kierującego akcją zadani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84"/>
              <a:buBlip>
                <a:blip r:embed="rId2"/>
              </a:buBlip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spółdziałanie z innymi załogami działającymi 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dcinku bojowym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84"/>
              <a:buBlip>
                <a:blip r:embed="rId3"/>
              </a:buBlip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trzymywanie ustalonej łączności na miejscu akcji ora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 ośrodkiem dyspozycyjnym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84"/>
              <a:buBlip>
                <a:blip r:embed="rId4"/>
              </a:buBlip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apewnienie na miarę posiadanych możliwoś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ezpieczeństwa członkom uczestniczącym w akcji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2"/>
          <p:cNvSpPr/>
          <p:nvPr/>
        </p:nvSpPr>
        <p:spPr>
          <a:xfrm>
            <a:off x="250920" y="659880"/>
            <a:ext cx="856908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Obowiązki d-cy zastępu c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84"/>
              <a:buBlip>
                <a:blip r:embed="rId1"/>
              </a:buBlip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ameldowanie nadrzędnemu dowódcy lub kierującem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kcją wykonania zadania i po uzyskaniu zgo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apewnienie bezpiecznego powrotu do strażnicy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84"/>
              <a:buBlip>
                <a:blip r:embed="rId2"/>
              </a:buBlip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ameldowanie ośrodkowi dyspozycyjnemu ora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naczelnikowi OSP o powrocie z akcji, ćwiczeń, itp.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84"/>
              <a:buBlip>
                <a:blip r:embed="rId3"/>
              </a:buBlip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opilnowanie doprowadzenia do sprawności sprzę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 wyposażenia załogi i zameldowanie o tym ośrodkow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yspozycyjnemu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84"/>
              <a:buBlip>
                <a:blip r:embed="rId4"/>
              </a:buBlip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porządzenie ustalonej (wymaganej) dokumentacji 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działu w akcji, ćwiczeniach itp. działania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2"/>
          <p:cNvSpPr/>
          <p:nvPr/>
        </p:nvSpPr>
        <p:spPr>
          <a:xfrm>
            <a:off x="250920" y="213840"/>
            <a:ext cx="8497800" cy="64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Wymagania stawiane strażakom ratownikom OSP powołanym do JO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SzPct val="102884"/>
              <a:buBlip>
                <a:blip r:embed="rId1"/>
              </a:buBlip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iek 18 – 60 la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SzPct val="102884"/>
              <a:buBlip>
                <a:blip r:embed="rId2"/>
              </a:buBlip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ykształcenie, co najmniej pełne podstawow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84"/>
              <a:buBlip>
                <a:blip r:embed="rId3"/>
              </a:buBlip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obry stan zdrowia potwierdzony zaświadczeni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lekarskim o dopuszczeniu do działań ratowniczych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SzPct val="102884"/>
              <a:buBlip>
                <a:blip r:embed="rId4"/>
              </a:buBlip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dporność na stres – opanowanie i spokój w sytuacj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rudnych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84"/>
              <a:buBlip>
                <a:blip r:embed="rId5"/>
              </a:buBlip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dyscyplinowanie i zaangażowanie oraz poczucie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dpowiedzialności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SzPct val="102884"/>
              <a:buBlip>
                <a:blip r:embed="rId6"/>
              </a:buBlip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dolność podejmowania szybkich decyzji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SzPct val="102884"/>
              <a:buBlip>
                <a:blip r:embed="rId7"/>
              </a:buBlip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tanowczość i konsekwencja w realizacji powierzone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adani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SzPct val="102884"/>
              <a:buBlip>
                <a:blip r:embed="rId8"/>
              </a:buBlip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koleżeństwo i kultura osobista oraz wrażliwość n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nieszczęście ludzki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SzPct val="102884"/>
              <a:buBlip>
                <a:blip r:embed="rId9"/>
              </a:buBlip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yszkolenie podstawowe strażaka ratownika OSP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2"/>
          <p:cNvSpPr/>
          <p:nvPr/>
        </p:nvSpPr>
        <p:spPr>
          <a:xfrm>
            <a:off x="179280" y="476280"/>
            <a:ext cx="8569440" cy="63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Wymagania stawiane strażakom ratownikom OSP powołanym do JOT c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yszkolenie specjalistyczne – przewidziane do specjalnych 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  działań ratowniczych lub obsługi sprzętu ratowniczego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zeszkolenie z zakresu BHP oraz obsługi sprzętu dróg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  oddechowych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amokształcenie doskonalą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trażak ratownik OSP ponosi odpowiedzialność statutową za wykonywanie powierzonych zadań i obowiązków oraz przestrzeganie dyscypliny organizacyjnej i postanowień regulaminu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395280" y="1553400"/>
            <a:ext cx="8353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544680"/>
                <a:tab algn="l" pos="56196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trażak ratownik OSP będący zarazem kierowcą samochodu pożarniczego lub uprawnionym do prowadzenia innego środka transportu jest odpowiedzialny z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544680"/>
                <a:tab algn="l" pos="56196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prawność powierzonego mu środka transportu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544680"/>
                <a:tab algn="l" pos="56196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achowanie niezbędnej ostrożności w czasie jazdy 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544680"/>
                <a:tab algn="l" pos="56196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kcji oraz podczas innych wyjazdów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SzPct val="102884"/>
              <a:buBlip>
                <a:blip r:embed="rId3"/>
              </a:buBlip>
              <a:tabLst>
                <a:tab algn="l" pos="544680"/>
                <a:tab algn="l" pos="56196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bsługę w czasie akcji środka transportu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544680"/>
                <a:tab algn="l" pos="56196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ainstalowanych w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nim urządzeń w sposó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544680"/>
                <a:tab algn="l" pos="56196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apewniający sprawne wykonanie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adania ora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544680"/>
                <a:tab algn="l" pos="56196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ezpieczeństwo ratowników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401760" y="352440"/>
            <a:ext cx="8556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Wymagania stawiane strażakom ratownikom O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powołanym do JOT c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7"/>
          <p:cNvSpPr/>
          <p:nvPr/>
        </p:nvSpPr>
        <p:spPr>
          <a:xfrm>
            <a:off x="1332000" y="88560"/>
            <a:ext cx="6143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Jednostka operacyjno-techniczna OSP (JO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539640" y="1410840"/>
            <a:ext cx="8207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zez jednostkę operacyjno-techniczną ochotniczej straży pożarnej zwaną dalej JOT należy rozumieć powołany spośród członków czynnych pododdział strażaków ratowników OSP przeznaczony do działań ratowniczy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539640" y="3243240"/>
            <a:ext cx="82821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Kategorie JO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Kategoryzacja polega na sklasyfikowaniu JOT według określonych zasad (standardów) oceniających ich możliwości w działaniach ratowniczych i zabezpieczających. Kategoryzacja to wyróżnienie w klasyfikacji pokazujące skrótowo (określonym symbolem) wartość bojową jednostki operacyjno-technicznej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4"/>
          <p:cNvSpPr/>
          <p:nvPr/>
        </p:nvSpPr>
        <p:spPr>
          <a:xfrm>
            <a:off x="468360" y="2147760"/>
            <a:ext cx="8136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oprowadzenie środka transportu i jego urządzeń po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 powrocie z akcji do ponownej sprawności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trzymanie powierzonego środka transportu 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należytej czystości i konserwacji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SzPct val="102884"/>
              <a:buBlip>
                <a:blip r:embed="rId3"/>
              </a:buBlip>
              <a:tabLst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głoszenie naczelnikowi OSP upływu termi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ażności dokumentów dopuszczających sprzę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o użytkowan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401760" y="352440"/>
            <a:ext cx="8556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Wymagania stawiane strażakom ratownikom O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powołanym do JOT c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 u="sng">
                <a:solidFill>
                  <a:srgbClr val="000000"/>
                </a:solidFill>
                <a:uFillTx/>
                <a:latin typeface="Arial"/>
              </a:rPr>
              <a:t>WYKORZYSTANO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ytyczne w sprawie wyposażenia jednostek Operacyjno-Technicznych OSP w sprzęt i środki niezbędne do działań ratowniczych” wprowadzone Uchwałą nr 182/31/2006 Prezydium ZG ZOSP RP          z dn. 08 września 2006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normatywne wyposażenie ratowników OSP”, wprowadzone Uchwałą nr 124/22/2005 Prezydium ZG ZOSP RP z dn. 28 czerwca 2005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Kategoryzacja Jednostek Operacyjno-Technicznych Ochotniczych Straży Pożarnych – opracowanie ZG ZOSP RP wydane przez Zarząd Wojewódzki ZOSP RP w Gdańsku w 2005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przęt, Normatywy - ABC strażaka ochotnika nr 23 – opracowanie wydane przez Zarząd Wojewódzki ZOSP RP w Gdańsk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ww.zgzosprp.p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2"/>
          <p:cNvSpPr/>
          <p:nvPr/>
        </p:nvSpPr>
        <p:spPr>
          <a:xfrm>
            <a:off x="1909800" y="2490840"/>
            <a:ext cx="505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DZIĘKUJĘ ZA UWAG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4"/>
          <p:cNvSpPr/>
          <p:nvPr/>
        </p:nvSpPr>
        <p:spPr>
          <a:xfrm>
            <a:off x="324000" y="339120"/>
            <a:ext cx="8496000" cy="52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Zasady powoływania J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kład osobowy JOT powinien być dobrany spośród członków czynnych OSP posiadających odpowiednie predyspozycje psychiczne i fizyczne oraz spełniających wymogi stawiane strażakom ratownikom OS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zed powołaniem do JOT naczelnik OSP przeprowadza indywidualne rozmowy z kandydatami, zapoznaje ich z obowiązkami i uprawnieniami, a także uświadamia szczególną rolę i prestiż strażaka ratownik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o skompletowaniu listy kandydatów naczelnik przedstawia ją zarządowi OSP, który podejmuje uchwałę powołującą JOT odpowiedniej kategori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401400" y="496800"/>
            <a:ext cx="701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Wyróżniamy następujące kategorie JO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395280" y="1006200"/>
            <a:ext cx="8424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660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Kategoria I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– JOT zdolna do podjęcia w czasie dysponowania do 5 min n/w działań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SzPct val="102884"/>
              <a:buBlip>
                <a:blip r:embed="rId1"/>
              </a:buBlip>
              <a:tabLst>
                <a:tab algn="l" pos="660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ziałania ratownicze w czasie pożarów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SzPct val="102884"/>
              <a:buBlip>
                <a:blip r:embed="rId2"/>
              </a:buBlip>
              <a:tabLst>
                <a:tab algn="l" pos="660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ziałania ratownicze w czasie katastrof, wypadków i awari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60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echnicznych, szczególnie komunikacyjnych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SzPct val="102884"/>
              <a:buBlip>
                <a:blip r:embed="rId3"/>
              </a:buBlip>
              <a:tabLst>
                <a:tab algn="l" pos="660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ziałania ratownicze w czasie zagrożenia wodne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60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(głównie powodziowego) lub ekologicznego lu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60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hemicznego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SzPct val="102884"/>
              <a:buBlip>
                <a:blip r:embed="rId4"/>
              </a:buBlip>
              <a:tabLst>
                <a:tab algn="l" pos="660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dzielenie zgodnie z obowiązującymi procedura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60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ierwszej pomocy medycznej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SzPct val="102884"/>
              <a:buBlip>
                <a:blip r:embed="rId5"/>
              </a:buBlip>
              <a:tabLst>
                <a:tab algn="l" pos="660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ziałania zabezpieczające w czasie innych zagrożeń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60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JOT w sile plutonu z terenem własnego działania obejmującym powi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324000" y="1912320"/>
            <a:ext cx="8424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67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Kategoria II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– JOT zdolna do podjęcia w czasie dysponowania do 5 min n/w działań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SzPct val="102884"/>
              <a:buBlip>
                <a:blip r:embed="rId1"/>
              </a:buBlip>
              <a:tabLst>
                <a:tab algn="l" pos="67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ziałania ratownicze w czasie pożarów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SzPct val="102884"/>
              <a:buBlip>
                <a:blip r:embed="rId2"/>
              </a:buBlip>
              <a:tabLst>
                <a:tab algn="l" pos="67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ziałania ratownicze w czasie katastrof, wypadków i awar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7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echnicznych szczególnie komunikacyjnych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SzPct val="102884"/>
              <a:buBlip>
                <a:blip r:embed="rId3"/>
              </a:buBlip>
              <a:tabLst>
                <a:tab algn="l" pos="67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dzielenie zgodnie z obowiązującymi procedura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7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ierwszej pomocy medycznej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SzPct val="102884"/>
              <a:buBlip>
                <a:blip r:embed="rId4"/>
              </a:buBlip>
              <a:tabLst>
                <a:tab algn="l" pos="67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ziałania zabezpieczające w czasie innych zagrożeń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7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JOT w sile plutonu z terenem własnego działania obejmującym powi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327600" y="784080"/>
            <a:ext cx="32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Kategorie JOT c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324000" y="1730160"/>
            <a:ext cx="8496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67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Kategoria III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– JOT zdolna do podjęcia w czasie dysponowania do 5 min n/w działań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5840" algn="just">
              <a:buSzPct val="102884"/>
              <a:buBlip>
                <a:blip r:embed="rId1"/>
              </a:buBlip>
              <a:tabLst>
                <a:tab algn="l" pos="67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ziałania ratownicze w czasie pożarów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5840" algn="just">
              <a:buSzPct val="102884"/>
              <a:buBlip>
                <a:blip r:embed="rId2"/>
              </a:buBlip>
              <a:tabLst>
                <a:tab algn="l" pos="67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dzielenie zgodnie z obowiązującymi procedura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7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ierwszej pomocy medycznej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5840" algn="just">
              <a:buSzPct val="102884"/>
              <a:buBlip>
                <a:blip r:embed="rId3"/>
              </a:buBlip>
              <a:tabLst>
                <a:tab algn="l" pos="67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ziałania zabezpieczające w czasie innych zagrożeń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7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JOT w sile 1 sekcji z terenem własnego działania obejmującym gminę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327600" y="784080"/>
            <a:ext cx="32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Kategorie JOT c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179280" y="1770480"/>
            <a:ext cx="8353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Kategoria IV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– JOT w OSP lokalnego działania zdolna do podjęcia w czasie dysponowania do 10 min ograniczonych działań ratowniczych w czasie pożarów oraz działań zabezpieczających podczas innych zagrożeń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JOT w sile 1 sekcji z terenu własnego działania obejmującym miejscowość będącą siedzibą OS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327600" y="784080"/>
            <a:ext cx="32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Kategorie JOT c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250920" y="1442520"/>
            <a:ext cx="8642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JOT Specjalistyczna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– przygotowana do specjalistycznych działań ratowniczych i zabezpieczających w czasie klęsk żywiołowych, katastrof, awarii i innych zagrożeń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Rodzaj działań ratowniczych, czas dysponowania, podstawowe wymogi organizacyjno-techniczne i teren własnego działania dla JOT specjalistycznej powinny być ustalone w dokumencie powołującym tą jednostkę (uchwała OSP z załącznikami) oraz powiatowym lub wojewódzkim planie ratowniczy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327600" y="784080"/>
            <a:ext cx="32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Kategorie JOT c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179280" y="398520"/>
            <a:ext cx="8785440" cy="60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8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Regulamin organizacyjny J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8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8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arząd OSP na podstawie statutu OSP powołuje na wniosek naczelnika jednostkę operacyjno-techniczną  i ustala dla niej regulamin organizacyjny. Podjęta przez zarząd uchwała w tym przedmiocie jest wewnętrznym aktem prawnym obowiązującym w danej OS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8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8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Regulamin JOT określ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SzPct val="102884"/>
              <a:buBlip>
                <a:blip r:embed="rId1"/>
              </a:buBlip>
              <a:tabLst>
                <a:tab algn="l" pos="98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el oraz zasady powołania i funkcjonowania JO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SzPct val="102884"/>
              <a:buBlip>
                <a:blip r:embed="rId2"/>
              </a:buBlip>
              <a:tabLst>
                <a:tab algn="l" pos="98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akres działania JOT i jej zadani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SzPct val="102884"/>
              <a:buBlip>
                <a:blip r:embed="rId3"/>
              </a:buBlip>
              <a:tabLst>
                <a:tab algn="l" pos="98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kierowanie (dowodzenie) JOT – uprawnienia, obowiązki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8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dpowiedzialność dowódców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SzPct val="102884"/>
              <a:buBlip>
                <a:blip r:embed="rId4"/>
              </a:buBlip>
              <a:tabLst>
                <a:tab algn="l" pos="98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bowiązki, uprawnienia i odpowiedzialność strażakó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8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ratowników OSP powołanych do JOT oraz stawiane 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8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ymagan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3T07:34:26Z</dcterms:created>
  <dc:creator>Marcin Buczek</dc:creator>
  <dc:description/>
  <dc:language>en-US</dc:language>
  <cp:lastModifiedBy>Jacek Dudek</cp:lastModifiedBy>
  <dcterms:modified xsi:type="dcterms:W3CDTF">2020-12-11T10:43:57Z</dcterms:modified>
  <cp:revision>30</cp:revision>
  <dc:subject/>
  <dc:title>Prezentacja programu PowerPoint</dc:title>
</cp:coreProperties>
</file>