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0D30-072C-40AB-A547-993585C17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89AD-D521-4987-B0CB-20D79196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AB84-25C3-4408-849B-46E1DFC62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7645-AC1D-44FA-BE10-785B7DEC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6C8B-FBE2-4152-8BEC-5B3F7C7D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7375-155C-4155-9008-5B6D828E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0187-27ED-4725-B37E-FAADCA3D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E205-96B5-4DE2-9669-D3CB7FEC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C833-CE83-4DDF-869B-A4A9C413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C420-E015-4123-BFA3-06A9599C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BA57-67D4-4117-BF11-9201BAF6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4BD0-0E0A-465C-A038-B31B0C49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88F9-69E7-4ED9-896E-9F74F9ED179B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42472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242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SZKOLENIE  DOWÓDCÓW OSP</a:t>
            </a:r>
            <a:br>
              <a:rPr sz="3200"/>
            </a:b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      TEMAT 7: Sporządzanie dokumentacji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                z działań ratowniczych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5157720"/>
            <a:ext cx="374328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utor: Robert Łaza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7280" y="1412640"/>
            <a:ext cx="453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zory Dokumentacji z Działań Ratownicz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99640" y="476280"/>
            <a:ext cx="40388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.........................           ............., dnia 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(nazwa jednostki lu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mórki organizacyjnej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.......................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(stopień, nazwisko i imi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składającego meldune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.......................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(stanowisko służbow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Arial"/>
              </a:rPr>
              <a:t>MELDUN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Arial"/>
              </a:rPr>
              <a:t>O LEKKIM WYPADKU PRZY PRA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Melduję, że w dniu ....... o godz. ...... podczas ......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lekkiemu wypadkowi uległ ............................. lat 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(stopień, nazwisko, imię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pracownik 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(nazwa komórki organizacyjnej - zajmowa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stanowisko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W wyniku wypadku poszkodowany doznał ...................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(określenie obrażeń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wskutek 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pierwszej pomocy udzielił poszkodowanemu ...............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Obecnie poszkodowany znajduje się w ....................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(miejsce pobytu, adres zakładu służby zdrowi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Wypadek został zgłoszony w dniu ..... przez ............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Do WSKR przekazano dnia ......... godz. .....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Świadkami wypadku byl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1) ................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2) ................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3) ................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przyjął ..........................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(podpis składającego meldune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(stopień, nazwisko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Załącznik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..............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..............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1640" y="4220640"/>
            <a:ext cx="35290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Meldunek o lekkim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ypadku przy pracy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55640" y="333360"/>
          <a:ext cx="3529080" cy="614664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61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3280" y="1483920"/>
            <a:ext cx="396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zory Dokumentacji z Działań Ratownicz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692280"/>
            <a:ext cx="40384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|_|_|_|_|_|_|_|-|_|_|_|_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...............................                            Nr ewidencyj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(Jednostka Ratowniczo-Gaśnicza)         zdarze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POTWIERDZ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udziału w zdarzeniu w dniu 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(adres miejsca zdarzen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(Kierujący działani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ratowniczy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363640" y="4672080"/>
            <a:ext cx="403884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otwierdzenie udziału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 zdarzeni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68360" y="549360"/>
          <a:ext cx="4464000" cy="6003720"/>
        </p:xfrm>
        <a:graphic>
          <a:graphicData uri="http://schemas.openxmlformats.org/drawingml/2006/table">
            <a:tbl>
              <a:tblPr/>
              <a:tblGrid>
                <a:gridCol w="4464000"/>
              </a:tblGrid>
              <a:tr h="60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684360" y="2997360"/>
          <a:ext cx="3958920" cy="1020600"/>
        </p:xfrm>
        <a:graphic>
          <a:graphicData uri="http://schemas.openxmlformats.org/drawingml/2006/table">
            <a:tbl>
              <a:tblPr/>
              <a:tblGrid>
                <a:gridCol w="358560"/>
                <a:gridCol w="960480"/>
                <a:gridCol w="1128600"/>
                <a:gridCol w="868680"/>
                <a:gridCol w="64260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Jednostk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soby uczestniczą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zas udziału jednostk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Uwag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716000" y="1412640"/>
            <a:ext cx="42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zory Dokumentacji z Działań Ratownicz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716000" y="4797000"/>
            <a:ext cx="442764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arta Segregacyjna (str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40179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00360" y="1341000"/>
            <a:ext cx="410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zory Dokumentacji z Działań Ratownicz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3500280" cy="5937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00360" y="4723920"/>
            <a:ext cx="4902120" cy="7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arta Segregacyjna (str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naki Umow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naki umowne to znaki taktyczne i prewencyjne dla straży pożarnych stanowiące zbiór symboli graficznych, oznaczeń, gestów, przeznaczony do sprawnego przekazywania informacji lub graficznego zobrazowania sytuac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dstawę stosowania znaków graficznych stanowi Rozkaz nr 4/2000 Komendanta Głównego PSP z dnia 2 czerwca 2000r. w sprawie wprowadzenia do użytku służbowego Zbioru Znaków Taktycznych i Prewencyjnych dla Straży Pożarn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84360" y="1196640"/>
            <a:ext cx="28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naki Umow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84720" y="4220640"/>
            <a:ext cx="3059280" cy="5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zykładowe znak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graficz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armatura pożarnicza"/>
          <p:cNvPicPr/>
          <p:nvPr/>
        </p:nvPicPr>
        <p:blipFill>
          <a:blip r:embed="rId1"/>
          <a:stretch/>
        </p:blipFill>
        <p:spPr>
          <a:xfrm>
            <a:off x="539640" y="549360"/>
            <a:ext cx="554688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148000" y="1196640"/>
            <a:ext cx="347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naki Umow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508720" y="4005360"/>
            <a:ext cx="331128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Barwy stosowane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o konstruowan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naków taktycznych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i prewencyjnych.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barwy znaków taktycznych i prewencyjnych"/>
          <p:cNvPicPr/>
          <p:nvPr/>
        </p:nvPicPr>
        <p:blipFill>
          <a:blip r:embed="rId1"/>
          <a:stretch/>
        </p:blipFill>
        <p:spPr>
          <a:xfrm>
            <a:off x="539640" y="404640"/>
            <a:ext cx="470556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 u="sng">
                <a:solidFill>
                  <a:srgbClr val="000000"/>
                </a:solidFill>
                <a:uFillTx/>
                <a:latin typeface="Arial"/>
              </a:rPr>
              <a:t>WYKORZYSTAN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tawa z dnia 24 sierpnia 1991 roku o ochronie przeciwpożarowej. Dz.U. Nr 81, poz. 351 z 1991 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tawa z dnia 24 sierpnia 1991 roku o Państwowej Straży Pożarnej. Dz.U. Nr 88,poz. 400 z 1991 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porządzenie Ministra Spraw Wewnętrznych            i Administracji z dnia 31 lipca 2001 roku w sprawie szczegółowych zasad kierowania i współdziałania jednostek ochrony przeciwpożarowej biorących udział w działaniu ratowniczym. Dz. U. Nr 82, poz. 895 z 2001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0" y="141300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 u="sng">
                <a:solidFill>
                  <a:srgbClr val="000000"/>
                </a:solidFill>
                <a:uFillTx/>
                <a:latin typeface="Arial"/>
              </a:rPr>
              <a:t>WYKORZYSTAN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porządzenie Ministra Spraw Wewnętrznych i Administracji z dnia 4 lipca 1992 roku w sprawie zakresu i trybu korzystania z praw przez kierującego działaniem ratowniczym. Dz. U. Nr 54, poz. 259 z  1992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porządzenie Ministra Spraw Wewnętrznych i Administracji z dnia 29 grudnia 1999 roku w sprawie szczegółowych zasad organizacji krajowego systemu ratowniczo-gaśniczego. Dz. U. Nr 111, poz. 1311           z 1999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539640" y="234936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DZIĘKUJĘ ZA UWAG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Sporządzanie Dokumentacji z Działań Ratownicz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rządzanie dokumentacji z działań ratowniczych oraz objaśnienia dotyczące wypełniania tej dokumentacji reguluje Rozporządzenie Ministra Spraw Wewnętrznych     i Administracji z dnia 29 grudnia 1999 roku w sprawie szczegółowych zasad organizacji krajowego systemu ratowniczo-gaśniczego (Dz. U. Nr 111, poz. 1311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z 1999 r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kumentację zdarzeń sporządzają podmioty systemu biorące udział w działaniu ratowniczy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Sporządzanie Dokumentacji z Działań Ratownicz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ierujący działaniem ratowniczy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porządza informację ze zdarzenia oraz, jeśli to konieczne, raport kierującego działaniem ratowniczym, meldunek o lekkim wypadku przy pracy, meldunek o wypadkach, meldunek o wypadku samochodu PSP, a następnie przekazuje je do właściwego terytorialnie ze względu na miejsce prowadzenia działań ratowniczych PSK/MSK lub podległej jednostki ratowniczo-gaśniczej, które nadają mu kolejny numer ewidencyjny. Za prawidłowość danych zawartych w informacji ze zdarzenia odpowiada sporządzający tę informacj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Sporządzanie Dokumentacji z Działań Ratownicz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Uwzględniając kompetencje Dowódcy OSP poniżej wymienione są  dokumenty, które dowódca będzie wypełnia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cja ze zdarzeni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cyzja kierującego działaniem ratowniczy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kwitowanie przejęcia mienia w użytkowani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kwitowanie zwrotu mieni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stanowienie o przekazaniu miejsca objętego działaniem ratowniczy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aport kierującego działaniem ratowniczy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eldunek o lekkim wypadku przy prac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twierdzenie udziału w zdarzeni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arta udzielonej pomocy medycznej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arta segregacyj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76720" y="1052280"/>
            <a:ext cx="3888000" cy="26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zory Dokumentacji z Działań Ratowniczych</a:t>
            </a:r>
            <a:br>
              <a:rPr sz="28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560" y="259920"/>
            <a:ext cx="40388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........................       ..............., dnia 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(jednostka ochro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przeciwpożarowe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 u="sng">
                <a:solidFill>
                  <a:srgbClr val="000000"/>
                </a:solidFill>
                <a:uFillTx/>
                <a:latin typeface="Times New Roman"/>
              </a:rPr>
              <a:t>DECYZJ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 u="sng">
                <a:solidFill>
                  <a:srgbClr val="000000"/>
                </a:solidFill>
                <a:uFillTx/>
                <a:latin typeface="Times New Roman"/>
              </a:rPr>
              <a:t>KIERUJĄCEGO DZIAŁANIEM RATOWNICZY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(stopień służbowy, imię i nazwisk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z 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(nazwa i siedziba jednostki ratowniczo-gaśnicze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........................ kierując działaniem ratowniczy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prowadzonym w dniu ................. w obiekc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- określenie obiektu 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- adres obiektu 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- właściciel użytkownik obiektu 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Na podstawie art. 21 ust. 2 ustawy z dnia 24 sierpnia 1991 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o Państwowej Straży Pożarnej (Dz. U. Nr 88, poz. 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z późniejszymi zmianami) oraz art. 25 ust. 1 ustawy z dnia 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sierpnia 1991 r. o ochronie przeciwpożarowej (Dz. U. Nr 81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poz. 351 z późniejszymi zmianami), mając na względz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okoliczności uzasadniające działanie w ramach stanu wyższe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konieczności, zarządzam, co następuj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1. 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2. 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3. 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4. 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Na podstawie art. 108 § 1 Kodeksu postępowa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administracyjnego niniejszej decyzji nadaje się ryg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natychmiastowej wykonalnośc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(podpis kierujące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działaniem ratowniczy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219280" y="4220640"/>
            <a:ext cx="37450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ecyzja kierujące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ziałaniem ratowniczy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08000" y="189000"/>
          <a:ext cx="4680000" cy="568800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56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19280" y="1412640"/>
            <a:ext cx="39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zory Dokumentacji z Działań Ratownicz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7280" y="476280"/>
            <a:ext cx="40388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........................       ..............., dnia 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(jednostka ochro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przeciwpożarowe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 u="sng">
                <a:solidFill>
                  <a:srgbClr val="000000"/>
                </a:solidFill>
                <a:uFillTx/>
                <a:latin typeface="Times New Roman"/>
              </a:rPr>
              <a:t>POKWITOWAN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 u="sng">
                <a:solidFill>
                  <a:srgbClr val="000000"/>
                </a:solidFill>
                <a:uFillTx/>
                <a:latin typeface="Times New Roman"/>
              </a:rPr>
              <a:t>PRZEJĘCIA MIENIA W UŻYTKOWAN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Na podstawie art. 21 ust. 3 ustawy z dnia 24 sierpnia 1991 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o Państwowej Straży Pożarnej (Dz. U. Nr 88, poz. 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z późniejszymi zmianami) oraz art. 25 ust. 1 pkt 3 ustaw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z dnia 24 sierpnia 1991 r. o ochronie przeciwpożarowej (Dz. 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Nr 81, poz. 351 z późniejszymi zmianami) kwituję przejęc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 użytkowanie na czas prowadzenia działań ratownicz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 dniu............................. w obiekc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a) nieruchomości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b) przedmiotów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c) pojazdu: marki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o numerze rejestracyjnym 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przy wskazaniu licznika 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stanowiącego(-ych) własność użytkowaną przez 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(imię i nazwisko lub nazwa posiadacza mieni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Data i godzina przyjęcia mienia 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Opis stanu przejmowania mienia 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Określenie miejsca i terminu zwrotu mienia 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Stopień służbowy, imię i nazwisko kierującego działani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ratowniczym 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z 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(nazwa i siedziba jednostki ochrony przeciwpożarowe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kwituję przejęcie wyżej wymienionego mienia w użytkowanie 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czas prowadzenia działań ratowniczyc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............................... 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(kierujący działaniem          (właściciel, posiadac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ratowniczym)                        mieni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92720" y="4581000"/>
            <a:ext cx="385128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okwitowanie przeję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mienia w użytkow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116000" y="189000"/>
          <a:ext cx="4038480" cy="62197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621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59280" y="1125000"/>
            <a:ext cx="410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zory Dokumentacji z Działań Ratownicz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1280" y="333000"/>
            <a:ext cx="403848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000000"/>
                </a:solidFill>
                <a:uFillTx/>
                <a:latin typeface="Times New Roman"/>
              </a:rPr>
              <a:t>POKWITOW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 u="sng">
                <a:solidFill>
                  <a:srgbClr val="000000"/>
                </a:solidFill>
                <a:uFillTx/>
                <a:latin typeface="Times New Roman"/>
              </a:rPr>
              <a:t>ZWROTU MI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zyjętego w użytkowanie na podstawie art. 21 ust. 3 ustaw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z dnia 24 sierpnia 1991 r. o Państwowej Straży Pożarnej (D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. Nr 88, poz. 400 z późniejszymi zmianami) oraz art.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t. 1 pkt 3 ustawy z dnia 24 sierpnia 1991 r. o ochro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zeciwpożarowej (Dz. U. Nr 81, poz. 351 z późniejszy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zmianam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wituję zwrot przejętego mienia na czas działań ratownicz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 dniu 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 obiekcie 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) nieruchomości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) przedmiotów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) pojazdu: marki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 numerze rejestracyjnym ...............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zy wskazaniu licznika ................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żytkowanych przez 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imię, nazwisko lub nazwa jednostki PS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ta i godzina zwrotu mienia .................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is stanu przejmowania mienia ...............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mię i nazwisko właściciela mienia ...........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res 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wituję odbiór mienia użytkowanego przy działani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atowniczy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............................... ..............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właściciel, posiadacz          (kierujący działania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enia)                     ratowniczym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076720" y="4076640"/>
            <a:ext cx="37800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okwitowanie zwrotu mi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68360" y="260280"/>
          <a:ext cx="4248000" cy="6148440"/>
        </p:xfrm>
        <a:graphic>
          <a:graphicData uri="http://schemas.openxmlformats.org/drawingml/2006/table">
            <a:tbl>
              <a:tblPr/>
              <a:tblGrid>
                <a:gridCol w="4248000"/>
              </a:tblGrid>
              <a:tr h="614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3280" y="1196640"/>
            <a:ext cx="414036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zory Dokumentacji z Działań Ratownicz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47592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(jednostka ochro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przeciwpożarowe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 u="sng">
                <a:solidFill>
                  <a:srgbClr val="000000"/>
                </a:solidFill>
                <a:uFillTx/>
                <a:latin typeface="Arial"/>
              </a:rPr>
              <a:t>POSTANOWIENIE O PRZEKAZANIU MIEJS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 u="sng">
                <a:solidFill>
                  <a:srgbClr val="000000"/>
                </a:solidFill>
                <a:uFillTx/>
                <a:latin typeface="Arial"/>
              </a:rPr>
              <a:t>OBJĘTEGO DZIAŁANIEM RATOWNICZY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Dotyczy zdarzenia w 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 dniu .............. o godzinie 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działając na podstawie § 6 ust. 2 rozporządzenia Minis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Spraw Wewnętrznych z dnia 11 czerwca 1992 r. w spraw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szczegółowych zasad kierowania i współdziałania jednoste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ochrony przeciwpożarowej biorących udział w działani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atowniczym (Dz. U. Nr 52, poz. 244), przekazuj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(imię i nazwisk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do nadzorowania i zabezpieczenia 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iejsce objęte działaniami ratowniczymi, do chwili zakończe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dochodzenia prowadzonego przez Policję i Państwową Stra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Pożarną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Uwagi szczegółowe dotyczące zabezpieczenia miejsca objęte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działaniem ratowniczym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Przyjmujący                     Wydają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(stopień służbowy, imię i nazwisk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........................   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(podpi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(podpi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iejscowość ....................... dnia 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105520" y="436572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ostanowienie o przekazaniu miejsca objętego działaniem ratowniczy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11280" y="333360"/>
          <a:ext cx="4038480" cy="608004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60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4720" y="1557000"/>
            <a:ext cx="446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zory Dokumentacji z Działań Ratownicz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69192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..................., dnia .....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 u="sng">
                <a:solidFill>
                  <a:srgbClr val="000000"/>
                </a:solidFill>
                <a:uFillTx/>
                <a:latin typeface="Arial"/>
              </a:rPr>
              <a:t>RA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 u="sng">
                <a:solidFill>
                  <a:srgbClr val="000000"/>
                </a:solidFill>
                <a:uFillTx/>
                <a:latin typeface="Arial"/>
              </a:rPr>
              <a:t>KIERUJĄCEGO DZIAŁANIEM RATOWNICZY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w dniu ........... podczas działań ratowniczych prowadzony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w 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(rodzaj obiektu - terenu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(właściciel - użytkowni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1. Stopień służbowy, imię i nazwisko kierującego działani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ratowniczy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z jednostki ratowniczo-gaśniczej ....................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2. Określenie uprawnienia, z którego skorzystano .......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3. Opis wydarzeń uzasadniających skorzystanie z uprawnien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4. Dane osób, od których kierujący działaniem ratowniczy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zażądał udzielenia pomocy ...........................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5. Określenie ewentualnego uszczerbku na zdrowiu osó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wakuowanych albo udzielających pomocy lub opis szkod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materialnej w udostępnionym miejsc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......................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(podpis sporządzając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rapor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Raport przekazano przełożonem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........................ dnia .......... o godzinie .......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427280" y="4292640"/>
            <a:ext cx="483084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aport kierując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ziałaniem ratowniczy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39640" y="476280"/>
          <a:ext cx="3672000" cy="5932440"/>
        </p:xfrm>
        <a:graphic>
          <a:graphicData uri="http://schemas.openxmlformats.org/drawingml/2006/table">
            <a:tbl>
              <a:tblPr/>
              <a:tblGrid>
                <a:gridCol w="3672000"/>
              </a:tblGrid>
              <a:tr h="59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3T15:12:01Z</dcterms:created>
  <dc:creator>Marcin Buczek</dc:creator>
  <dc:description/>
  <dc:language>en-US</dc:language>
  <cp:lastModifiedBy>Jacek Dudek</cp:lastModifiedBy>
  <dcterms:modified xsi:type="dcterms:W3CDTF">2020-12-11T10:43:19Z</dcterms:modified>
  <cp:revision>32</cp:revision>
  <dc:subject/>
  <dc:title>      SZKOLENIE  DOWÓDCÓW OSP        TEMAT 7: Sporządzanie dokumentacji                 z działań ratowniczych </dc:title>
</cp:coreProperties>
</file>