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822960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02384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DOWÓDCÓW OS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0" y="3701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 3: Działania gaśnicz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468360" y="5389560"/>
            <a:ext cx="5410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Piotr P. Bieli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ezentacja: Piotr Heg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terenow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owanie przeszkód utrudniających podjęcie działań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 i drożność dojazdów do obiekt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wzniesień teren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prowadzenia linii węż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ieczność zabezpieczenia lub wstrzymania ruchu na drog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sytuacji atmosferycznej i mikroklimatyczne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iła i kierunek wiatru oraz ruchów powietrza przegrzanego i ich wpływ na sytuację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mperatura otoczenia i środowiska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ady atmosferyczne i wilgotność powietrza w środowisku poża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Organization Chart 2"/>
          <p:cNvGrpSpPr/>
          <p:nvPr/>
        </p:nvGrpSpPr>
        <p:grpSpPr>
          <a:xfrm>
            <a:off x="466560" y="260280"/>
            <a:ext cx="8066160" cy="6337440"/>
            <a:chOff x="466560" y="260280"/>
            <a:chExt cx="8066160" cy="6337440"/>
          </a:xfrm>
        </p:grpSpPr>
        <p:cxnSp>
          <p:nvCxnSpPr>
            <p:cNvPr id="68" name="_s2052"/>
            <p:cNvCxnSpPr>
              <a:stCxn id="69" idx="3"/>
              <a:endCxn id="70" idx="2"/>
            </p:cNvCxnSpPr>
            <p:nvPr/>
          </p:nvCxnSpPr>
          <p:spPr>
            <a:xfrm flipV="1">
              <a:off x="4066920" y="764280"/>
              <a:ext cx="432360" cy="4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71" name="_s2053"/>
            <p:cNvCxnSpPr>
              <a:stCxn id="72" idx="0"/>
              <a:endCxn id="69" idx="2"/>
            </p:cNvCxnSpPr>
            <p:nvPr/>
          </p:nvCxnSpPr>
          <p:spPr>
            <a:xfrm flipV="1">
              <a:off x="2266920" y="148392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70" name="_s2054"/>
            <p:cNvSpPr/>
            <p:nvPr/>
          </p:nvSpPr>
          <p:spPr>
            <a:xfrm>
              <a:off x="2625840" y="260280"/>
              <a:ext cx="3746520" cy="50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poża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_s2055"/>
            <p:cNvSpPr/>
            <p:nvPr/>
          </p:nvSpPr>
          <p:spPr>
            <a:xfrm>
              <a:off x="466560" y="1989000"/>
              <a:ext cx="3600720" cy="505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wstęp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466560" y="979560"/>
              <a:ext cx="3600720" cy="50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ogni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_s1028"/>
            <p:cNvCxnSpPr>
              <a:stCxn id="74" idx="1"/>
              <a:endCxn id="72" idx="3"/>
            </p:cNvCxnSpPr>
            <p:nvPr/>
          </p:nvCxnSpPr>
          <p:spPr>
            <a:xfrm flipV="1" rot="10800000">
              <a:off x="4066560" y="2238840"/>
              <a:ext cx="865800" cy="2520"/>
            </a:xfrm>
            <a:prstGeom prst="bentConnector3">
              <a:avLst>
                <a:gd name="adj1" fmla="val 49875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75" name="_s1031"/>
            <p:cNvSpPr/>
            <p:nvPr/>
          </p:nvSpPr>
          <p:spPr>
            <a:xfrm>
              <a:off x="468360" y="2997360"/>
              <a:ext cx="3600360" cy="576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szczegół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31"/>
            <p:cNvSpPr/>
            <p:nvPr/>
          </p:nvSpPr>
          <p:spPr>
            <a:xfrm>
              <a:off x="4932360" y="1987560"/>
              <a:ext cx="3600360" cy="50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ratownic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4932360" y="3645000"/>
              <a:ext cx="3598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wod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1"/>
            <p:cNvSpPr/>
            <p:nvPr/>
          </p:nvSpPr>
          <p:spPr>
            <a:xfrm>
              <a:off x="468360" y="5300640"/>
              <a:ext cx="2017800" cy="12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dowl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1"/>
            <p:cNvSpPr/>
            <p:nvPr/>
          </p:nvSpPr>
          <p:spPr>
            <a:xfrm>
              <a:off x="6588000" y="5300640"/>
              <a:ext cx="1944720" cy="1295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en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_s1031"/>
            <p:cNvSpPr/>
            <p:nvPr/>
          </p:nvSpPr>
          <p:spPr>
            <a:xfrm>
              <a:off x="2914560" y="5300640"/>
              <a:ext cx="3313080" cy="1297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sytuacj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mosferycznej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 mikroklimatyczn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" name="_s1029"/>
            <p:cNvCxnSpPr>
              <a:stCxn id="75" idx="0"/>
              <a:endCxn id="72" idx="2"/>
            </p:cNvCxnSpPr>
            <p:nvPr/>
          </p:nvCxnSpPr>
          <p:spPr>
            <a:xfrm flipV="1" rot="16200000">
              <a:off x="2015640" y="2744280"/>
              <a:ext cx="504000" cy="2160"/>
            </a:xfrm>
            <a:prstGeom prst="bentConnector3">
              <a:avLst>
                <a:gd name="adj1" fmla="val 49821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1" name="_s1029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1009080" y="4041360"/>
              <a:ext cx="1728000" cy="791280"/>
            </a:xfrm>
            <a:prstGeom prst="bentConnector3">
              <a:avLst>
                <a:gd name="adj1" fmla="val 49989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2" name="AutoShape 19"/>
            <p:cNvCxnSpPr>
              <a:stCxn id="79" idx="0"/>
              <a:endCxn id="75" idx="2"/>
            </p:cNvCxnSpPr>
            <p:nvPr/>
          </p:nvCxnSpPr>
          <p:spPr>
            <a:xfrm flipV="1" rot="16200000">
              <a:off x="2556000" y="3284640"/>
              <a:ext cx="1728000" cy="2304360"/>
            </a:xfrm>
            <a:prstGeom prst="bentConnector3">
              <a:avLst>
                <a:gd name="adj1" fmla="val 49989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3" name="AutoShape 22"/>
            <p:cNvCxnSpPr>
              <a:stCxn id="78" idx="0"/>
              <a:endCxn id="75" idx="2"/>
            </p:cNvCxnSpPr>
            <p:nvPr/>
          </p:nvCxnSpPr>
          <p:spPr>
            <a:xfrm flipV="1" rot="16200000">
              <a:off x="4050720" y="1789920"/>
              <a:ext cx="1728000" cy="5293800"/>
            </a:xfrm>
            <a:prstGeom prst="bentConnector3">
              <a:avLst>
                <a:gd name="adj1" fmla="val 49989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4" name="AutoShape 23"/>
            <p:cNvCxnSpPr>
              <a:stCxn id="74" idx="2"/>
              <a:endCxn id="75" idx="3"/>
            </p:cNvCxnSpPr>
            <p:nvPr/>
          </p:nvCxnSpPr>
          <p:spPr>
            <a:xfrm rot="5400000">
              <a:off x="5003280" y="1557000"/>
              <a:ext cx="79452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5" name="AutoShape 24"/>
            <p:cNvCxnSpPr>
              <a:stCxn id="76" idx="0"/>
              <a:endCxn id="75" idx="3"/>
            </p:cNvCxnSpPr>
            <p:nvPr/>
          </p:nvCxnSpPr>
          <p:spPr>
            <a:xfrm flipV="1" rot="16200000">
              <a:off x="5220720" y="2132640"/>
              <a:ext cx="359640" cy="266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86" name="AutoShape 25"/>
            <p:cNvCxnSpPr>
              <a:stCxn id="74" idx="0"/>
              <a:endCxn id="70" idx="3"/>
            </p:cNvCxnSpPr>
            <p:nvPr/>
          </p:nvCxnSpPr>
          <p:spPr>
            <a:xfrm flipV="1" rot="16200000">
              <a:off x="5814360" y="1069200"/>
              <a:ext cx="1475640" cy="36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2"/>
          <p:cNvGrpSpPr/>
          <p:nvPr/>
        </p:nvGrpSpPr>
        <p:grpSpPr>
          <a:xfrm>
            <a:off x="468360" y="1197000"/>
            <a:ext cx="8207280" cy="5327640"/>
            <a:chOff x="468360" y="1197000"/>
            <a:chExt cx="8207280" cy="5327640"/>
          </a:xfrm>
        </p:grpSpPr>
        <p:cxnSp>
          <p:nvCxnSpPr>
            <p:cNvPr id="88" name="_s3076"/>
            <p:cNvCxnSpPr>
              <a:stCxn id="89" idx="0"/>
              <a:endCxn id="90" idx="2"/>
            </p:cNvCxnSpPr>
            <p:nvPr/>
          </p:nvCxnSpPr>
          <p:spPr>
            <a:xfrm flipV="1">
              <a:off x="4572000" y="3715560"/>
              <a:ext cx="2160" cy="57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91" name="_s3077"/>
            <p:cNvCxnSpPr>
              <a:stCxn id="89" idx="1"/>
              <a:endCxn id="92" idx="2"/>
            </p:cNvCxnSpPr>
            <p:nvPr/>
          </p:nvCxnSpPr>
          <p:spPr>
            <a:xfrm rot="10800000">
              <a:off x="1872360" y="2275920"/>
              <a:ext cx="1691640" cy="241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90" name="_s3078"/>
            <p:cNvSpPr/>
            <p:nvPr/>
          </p:nvSpPr>
          <p:spPr>
            <a:xfrm>
              <a:off x="3564000" y="2492280"/>
              <a:ext cx="2016000" cy="122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sobis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najomość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iekt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_s3079"/>
            <p:cNvSpPr/>
            <p:nvPr/>
          </p:nvSpPr>
          <p:spPr>
            <a:xfrm>
              <a:off x="468360" y="1484280"/>
              <a:ext cx="2808360" cy="792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głoszenie pożar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iejsce poża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3080"/>
            <p:cNvSpPr/>
            <p:nvPr/>
          </p:nvSpPr>
          <p:spPr>
            <a:xfrm>
              <a:off x="3564000" y="4292640"/>
              <a:ext cx="2016000" cy="79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sob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468360" y="5300640"/>
              <a:ext cx="2808360" cy="122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okumentacj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żarowa obiekt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ogólna orientacj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6515280" y="1197000"/>
              <a:ext cx="216036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formacje o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nych osó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6445080" y="2709720"/>
              <a:ext cx="223056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ewnętrz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bjawy pożar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031"/>
            <p:cNvSpPr/>
            <p:nvPr/>
          </p:nvSpPr>
          <p:spPr>
            <a:xfrm>
              <a:off x="6515280" y="5732640"/>
              <a:ext cx="2160360" cy="79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j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1031"/>
            <p:cNvSpPr/>
            <p:nvPr/>
          </p:nvSpPr>
          <p:spPr>
            <a:xfrm>
              <a:off x="6515280" y="4260960"/>
              <a:ext cx="216036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naki i barw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ezpieczeńst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_s1029"/>
            <p:cNvCxnSpPr>
              <a:stCxn id="89" idx="1"/>
              <a:endCxn id="93" idx="0"/>
            </p:cNvCxnSpPr>
            <p:nvPr/>
          </p:nvCxnSpPr>
          <p:spPr>
            <a:xfrm flipV="1" rot="10800000">
              <a:off x="1872360" y="4689000"/>
              <a:ext cx="1691640" cy="612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99" name="_s1029"/>
            <p:cNvCxnSpPr>
              <a:stCxn id="90" idx="1"/>
              <a:endCxn id="93" idx="0"/>
            </p:cNvCxnSpPr>
            <p:nvPr/>
          </p:nvCxnSpPr>
          <p:spPr>
            <a:xfrm flipV="1" rot="10800000">
              <a:off x="1872360" y="3103560"/>
              <a:ext cx="1691640" cy="2196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00" name="_s1029"/>
            <p:cNvCxnSpPr>
              <a:stCxn id="89" idx="3"/>
              <a:endCxn id="94" idx="1"/>
            </p:cNvCxnSpPr>
            <p:nvPr/>
          </p:nvCxnSpPr>
          <p:spPr>
            <a:xfrm flipV="1">
              <a:off x="5580000" y="1628280"/>
              <a:ext cx="936000" cy="306144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01" name="_s1029"/>
            <p:cNvCxnSpPr>
              <a:stCxn id="89" idx="3"/>
              <a:endCxn id="95" idx="1"/>
            </p:cNvCxnSpPr>
            <p:nvPr/>
          </p:nvCxnSpPr>
          <p:spPr>
            <a:xfrm flipV="1">
              <a:off x="5579640" y="3141000"/>
              <a:ext cx="865800" cy="1548360"/>
            </a:xfrm>
            <a:prstGeom prst="bentConnector3">
              <a:avLst>
                <a:gd name="adj1" fmla="val 49875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02" name="_s1029"/>
            <p:cNvCxnSpPr>
              <a:stCxn id="89" idx="3"/>
              <a:endCxn id="97" idx="1"/>
            </p:cNvCxnSpPr>
            <p:nvPr/>
          </p:nvCxnSpPr>
          <p:spPr>
            <a:xfrm>
              <a:off x="5580000" y="4689000"/>
              <a:ext cx="936000" cy="396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03" name="_s1029"/>
            <p:cNvCxnSpPr>
              <a:stCxn id="89" idx="3"/>
              <a:endCxn id="96" idx="1"/>
            </p:cNvCxnSpPr>
            <p:nvPr/>
          </p:nvCxnSpPr>
          <p:spPr>
            <a:xfrm>
              <a:off x="5580000" y="4689360"/>
              <a:ext cx="936000" cy="1440360"/>
            </a:xfrm>
            <a:prstGeom prst="bentConnector3">
              <a:avLst>
                <a:gd name="adj1" fmla="val 49903"/>
              </a:avLst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Źródła informacji dla ratownikó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gólne zasady prowadzenia rozpoznania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26600" indent="-2545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ę o wyborze strony obiektu, od której rozpocznie się rozpoznanie podejmuje dowódca zastępu wskazując obszar penetracji lub sam prowadząc patrol rozpozn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6600" indent="-2545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ewnątrz obiektu o wyborze drogi najczęściej zdecyduje układ przejść komunikacyjnych lub rozkład pomieszczeń albo też punkt o szczególnym znaczeniu jak np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0120" indent="-219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jsce zagrożenia ludz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0120" indent="-219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łówny kierunek rozprzestrzeniania się pożar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0120" indent="-2192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jsca szczególnie niebezpieczne pożarow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0120" indent="-2192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jsca przewidywanego głównego kierunku działań itp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5220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0" algn="ctr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AMIĘTAJ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0" algn="ctr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-228600">
              <a:lnSpc>
                <a:spcPct val="8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 wolno stawać na wprost wyjśc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-228600">
              <a:lnSpc>
                <a:spcPct val="8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szelkie przejścia otwieramy jeżeli przygotowani jesteśmy do podania środków gaś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cena sytuacji pożarowej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ena sytu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analiza stanu i określenie konsekwencji wynikających z rozwoju i rozprzestrzeniania się pożaru, skutków katastrof, klęsk żywiołowych i innych występujących zagrożeń, przez kierującego działaniami ratowniczymi (lub sztab akcji), po przeprowadzeniu rozpoznania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cena dotyczy szczególn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miaru zagrożenia dla otoczenia, ludzi, zwierząt, mi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ci gwałtownej zmiany sytuacji wobec np. niebezpieczeństwa wystąpienia wybuchu lub zawal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ynamiki rozwoju i szybkości rozprzestrzenia się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ci i kierunków dalszego rozprzestrzeniania się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jakim stopniu zadymienie lub substancje toksyczne mogą komplikować sytuację i utrudniać prowadzenie działań ratownicz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9920" indent="-2624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a jest efektywność dotychczasowych działa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ena możliwości dział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lega na określeniu wydajności i przydatności sił i środków zgromadzonych na terenie akcji, po ustaleniu wielkości zaistniałego zagrożenia, a następuje ona po ocenie sytua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ównujemy to czym dysponujemy do tego co może zdarzyć się w najbliższym i dalszym czasie, pamiętając o dynamice zdarzeń i przewidując 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a ta, w prawidłowo przebiegającym procesie decyzyjnym stanowi podstawę do zadysponowania na miejsce zdarzenia dalszych sił i środków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37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ena możliwości dział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taje się  punktem wyjścia do podjęci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miaru takty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musi pozwolić na sformułowanie odpowiedzi na pyta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siły i środki przybyłe do akcji są wystarczają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e czasu zajmie przybycie dodatkowych si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ie rozmiary przyjmie zdarzenie do czasu przybycia wymaganej ilości sił i środkó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wystarczające są zasoby środków gaśniczy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istnieją dodatkowe zagrożenia i czy potrzebna jest pomoc innych służb ratowniczy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 zorganizować działania w danej fazie zdarzeń, by ograniczyć możliwość eskalacji zagrożen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sytuacji pożarowe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znani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st to zorganizowane,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ktywne i ciągł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ziałanie prowadzące do uzyskania informacji co do warunków zdarzenia. Musi ono poprzedzać każde działanie ratownicze na miejscu zdarz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miar taktyczn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miar taktycz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koncepcja osiągnięcia celu końcowego, a wcześniej celów pośredni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ejmowany jest on na podstawie ciągłego rozpoznania, oceny sytuacji i oceny możliwości działania w tym momencie, jak i w czasie dalszym, po przybyciu kolejnych sił i środków lub po ewentualnej zmianie sytua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jakie mamy do osiągnię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znanie zdarzeni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towanie lud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pewnienie bezpieczeństwa dla otoc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obron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gdy siły i środki są niewystarczające dla ugaszenia pożaru może to być jedyna skuteczna forma działania, podjęta, być może, w formie działań połączony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okalizacja pożar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przyrost powierzchni pożaru jest równy zeru lub wymagana intensywność podawania środków gaśniczych jest równa intensywności rzeczywistej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jęcie intensywnych działań gaśniczych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pobieganie zbędnym szko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bezpieczenie ciągłości działań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opniowe wycofywanie sił i środków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bezpieczeniu pogorzeliska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90400" y="368928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stawiony tok myślenia pozwala dowódcy 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wzięcie decyz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echanizm podejmowania decyzj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_s1031"/>
          <p:cNvSpPr/>
          <p:nvPr/>
        </p:nvSpPr>
        <p:spPr>
          <a:xfrm>
            <a:off x="142920" y="2960640"/>
            <a:ext cx="1692360" cy="140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rozpoznan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kument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az danych it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6"/>
          <p:cNvCxnSpPr>
            <a:stCxn id="121" idx="0"/>
            <a:endCxn id="119" idx="3"/>
          </p:cNvCxnSpPr>
          <p:nvPr/>
        </p:nvCxnSpPr>
        <p:spPr>
          <a:xfrm flipV="1" rot="16200000">
            <a:off x="1646640" y="3851640"/>
            <a:ext cx="1350000" cy="97380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22" name="_s1031"/>
          <p:cNvSpPr/>
          <p:nvPr/>
        </p:nvSpPr>
        <p:spPr>
          <a:xfrm>
            <a:off x="2195640" y="170028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ytu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_s1031"/>
          <p:cNvSpPr/>
          <p:nvPr/>
        </p:nvSpPr>
        <p:spPr>
          <a:xfrm>
            <a:off x="2195640" y="501336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liwoś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9"/>
          <p:cNvCxnSpPr>
            <a:stCxn id="122" idx="2"/>
            <a:endCxn id="119" idx="3"/>
          </p:cNvCxnSpPr>
          <p:nvPr/>
        </p:nvCxnSpPr>
        <p:spPr>
          <a:xfrm rot="5400000">
            <a:off x="1699560" y="2555640"/>
            <a:ext cx="1243800" cy="97380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24" name="_s1031"/>
          <p:cNvSpPr/>
          <p:nvPr/>
        </p:nvSpPr>
        <p:spPr>
          <a:xfrm>
            <a:off x="3132000" y="335772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m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takty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_s1031"/>
          <p:cNvSpPr/>
          <p:nvPr/>
        </p:nvSpPr>
        <p:spPr>
          <a:xfrm>
            <a:off x="4643280" y="3357720"/>
            <a:ext cx="93672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ecyz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_s1031"/>
          <p:cNvSpPr/>
          <p:nvPr/>
        </p:nvSpPr>
        <p:spPr>
          <a:xfrm>
            <a:off x="6012000" y="3357720"/>
            <a:ext cx="107928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k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lec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13"/>
          <p:cNvCxnSpPr>
            <a:stCxn id="124" idx="0"/>
            <a:endCxn id="122" idx="3"/>
          </p:cNvCxnSpPr>
          <p:nvPr/>
        </p:nvCxnSpPr>
        <p:spPr>
          <a:xfrm flipV="1" rot="16200000">
            <a:off x="2896560" y="2582280"/>
            <a:ext cx="1297800" cy="2530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28" name="AutoShape 14"/>
          <p:cNvCxnSpPr>
            <a:stCxn id="124" idx="2"/>
            <a:endCxn id="121" idx="3"/>
          </p:cNvCxnSpPr>
          <p:nvPr/>
        </p:nvCxnSpPr>
        <p:spPr>
          <a:xfrm rot="5400000">
            <a:off x="2896560" y="4598640"/>
            <a:ext cx="1297800" cy="2530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29" name="AutoShape 15"/>
          <p:cNvCxnSpPr>
            <a:stCxn id="125" idx="1"/>
            <a:endCxn id="124" idx="3"/>
          </p:cNvCxnSpPr>
          <p:nvPr/>
        </p:nvCxnSpPr>
        <p:spPr>
          <a:xfrm flipH="1" flipV="1">
            <a:off x="4210920" y="371736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30" name="AutoShape 16"/>
          <p:cNvCxnSpPr>
            <a:stCxn id="126" idx="1"/>
            <a:endCxn id="125" idx="3"/>
          </p:cNvCxnSpPr>
          <p:nvPr/>
        </p:nvCxnSpPr>
        <p:spPr>
          <a:xfrm flipH="1" flipV="1">
            <a:off x="5579640" y="371736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31" name="_s1031"/>
          <p:cNvSpPr/>
          <p:nvPr/>
        </p:nvSpPr>
        <p:spPr>
          <a:xfrm>
            <a:off x="7524720" y="335772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ział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AutoShape 18"/>
          <p:cNvCxnSpPr>
            <a:stCxn id="131" idx="1"/>
            <a:endCxn id="126" idx="3"/>
          </p:cNvCxnSpPr>
          <p:nvPr/>
        </p:nvCxnSpPr>
        <p:spPr>
          <a:xfrm flipH="1" flipV="1">
            <a:off x="7090920" y="3717360"/>
            <a:ext cx="434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33" name="_s1031"/>
          <p:cNvSpPr/>
          <p:nvPr/>
        </p:nvSpPr>
        <p:spPr>
          <a:xfrm>
            <a:off x="7093080" y="5014800"/>
            <a:ext cx="194472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ldun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 efektach działa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AutoShape 20"/>
          <p:cNvCxnSpPr>
            <a:stCxn id="133" idx="0"/>
            <a:endCxn id="131" idx="2"/>
          </p:cNvCxnSpPr>
          <p:nvPr/>
        </p:nvCxnSpPr>
        <p:spPr>
          <a:xfrm flipV="1" rot="16200000">
            <a:off x="7595640" y="4544280"/>
            <a:ext cx="938880" cy="2520"/>
          </a:xfrm>
          <a:prstGeom prst="bentConnector3">
            <a:avLst>
              <a:gd name="adj1" fmla="val 50057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35" name="AutoShape 21"/>
          <p:cNvCxnSpPr>
            <a:stCxn id="119" idx="2"/>
            <a:endCxn id="133" idx="2"/>
          </p:cNvCxnSpPr>
          <p:nvPr/>
        </p:nvCxnSpPr>
        <p:spPr>
          <a:xfrm flipH="1" rot="16200000">
            <a:off x="3842280" y="1510920"/>
            <a:ext cx="1369080" cy="7077960"/>
          </a:xfrm>
          <a:prstGeom prst="bentConnector3">
            <a:avLst>
              <a:gd name="adj1" fmla="val 148947"/>
            </a:avLst>
          </a:prstGeom>
          <a:ln w="2844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36" name="Rectangle 22"/>
          <p:cNvSpPr/>
          <p:nvPr/>
        </p:nvSpPr>
        <p:spPr>
          <a:xfrm>
            <a:off x="1979640" y="1413000"/>
            <a:ext cx="3744720" cy="4537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tarci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3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etody natar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tarcie pośred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sze działanie (w tym środki gaśnicze) kierujemy w przestrzeń w której ma miejsce pożar w celu umożliwienia dotarcia do ogniska pożaru, poprawienia warunków pobytu w pomieszczeniach (w przestrzeni) objętych pożare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tarcie złożon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polega na oddziaływaniu zarówno na strefę gorących gazów (podsufitową) jak i na przedmioty palące się bądź gotowe do zapalenia, doprowadzając do ochłodzenia całej przestrzeni objętej pożar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tarcie bezpośred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olega na aktywnym zwalczaniu ognisk pożaru, czyli podawaniu środków gaśniczych bezpośrednio w strefę spala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bro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rona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ma działania taktycznego polegająca na oddziaływaniu określonymi środkami na obiekty zagrożone pożar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e obro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rona bliżs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działania obronne podjęte są w stosunku do obiektów zagrożonych bezpośredni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brona dalsza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obronne podjęte są w stosunku do obiektów zagrożonych pośred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odejmowania działań w obroni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6480" indent="-45720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rona musi być podjęta przede wszystkim na głównym kierunku rozprzestrzeniania się pożaru, szczególnie gdy istnieje niebezpieczeństwo, że pożar może przyjąć znaczne rozmi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rona podjęta zostaje, gdy zagrożone są obiekty o znacznej wartości użytkowej, technologicznej, kulturowej czy material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rona często ma wspierać natarcie poprawiając warunki pracy innym stanowiskom bojowym, chroniąc konstrukcje obiektów przed nadmiernym nagrzewaniem się i utratą wytrzymałości, wypierając i osadzając dy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2960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6480" indent="-45720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obronne towarzyszą często działaniom ratowniczym i zadaniem ich jest wówczas ochrona przejść przed zadymieniem, nagrzewaniem czy pojawieniem się na nich płomie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98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odejmowania działań w obro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połączo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połączone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forma działań łączących natarcie z obroną, mająca na celu zmniejszenie szybkości rozprzestrzeniania się pożaru i obronę obiektów położonych bezpośrednio przy froncie pożaru, aż do stworzenia (bądź zaistnienia) warunków do likwidacji poża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ałania skoncentrowan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skoncentrowa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atarcie na ognisko poż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tapy działań skoncentrowany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omadzenie i rozstawianie sił i środków na stanowiskach wyjściowych do natarcia z równolegle prowadzonymi działaniami obronnymi (najczęściej przez opóźniani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oncentrowane, zdecydowane i nieprzerwane natarcie wszystkimi przygotowanymi siłami i środk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znanie wstępne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gólne rozpoznanie w stopniu pozwalającym na ocenę sytuacji i podjęcie decyzji. Realizowane jest przed podjęciem zasadniczych działań ratowniczo-gaś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znanie boje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połączenie rozpoznania wstępnego z równoczesnymi działaniami ratowniczo-gaśniczymi. Charakterystyczne dla pierwszych pododdziałów. Uzupełnione następnie rozpoznaniem szczegółowy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znanie szczegółow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rozpoznanie prowadzone podczas działań ratowniczo-gaśniczych. Pozwala na ocenę skuteczności podjętych przedsięwzięć, śledzenie zmian w sytuacji,  korektę decyz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rozpoznan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95280" y="1557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elicki Piotr P., Rozpoznanie pożaru. CSPSP Częstochowa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elicki Piotr P., Taktyka działań gaśniczych dla słuchaczy kursu kwalifikacyjnego szeregowych Państwowej Straży Pożarnej. Warszawa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rzyński Edward, Podejmowanie decyzji w działaniach taktycznych straży pożarnych. IWCRZZ Warszawa 19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ierski Edward, Efektywność dowodzenia. Firex Warszaw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liciecki Henryk, Podręcznik kierowcy mechanika straży pożarnych, IWCRZZ, Warszawa 197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611280" y="404640"/>
            <a:ext cx="820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68360" y="1773360"/>
            <a:ext cx="8424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miński Andrzej, Sytuacje pożarowe, siły i środki niezbędne w działaniach taktycznych. SGSP Warszawa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ecki Marek, Król Bernard, Wróblewski Dariusz, Nowoczesne metody działań ratowniczo-gaśniczych. SGSP Warszawa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ulm Markus, Błędy w taktyce – duże straty (tłum. J. Kielin, A. Ludwig). FEiTR „Edura” Warszawa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źnik Marian, Metody ograniczania zagrożeń powodowanych przez dymy i gazy pożarowe. Mercor Gdańsk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1280" y="112536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197_9720"/>
          <p:cNvPicPr/>
          <p:nvPr/>
        </p:nvPicPr>
        <p:blipFill>
          <a:blip r:embed="rId1"/>
          <a:stretch/>
        </p:blipFill>
        <p:spPr>
          <a:xfrm>
            <a:off x="1690560" y="1809720"/>
            <a:ext cx="5905800" cy="4283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95280" y="61578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Michał Czerw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Organization Chart 5"/>
          <p:cNvGrpSpPr/>
          <p:nvPr/>
        </p:nvGrpSpPr>
        <p:grpSpPr>
          <a:xfrm>
            <a:off x="530280" y="1443240"/>
            <a:ext cx="7918920" cy="4205520"/>
            <a:chOff x="530280" y="1443240"/>
            <a:chExt cx="7918920" cy="42055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2329920" y="3062520"/>
              <a:ext cx="359640" cy="177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50" name="_s1029"/>
            <p:cNvCxnSpPr>
              <a:stCxn id="51" idx="2"/>
              <a:endCxn id="48" idx="3"/>
            </p:cNvCxnSpPr>
            <p:nvPr/>
          </p:nvCxnSpPr>
          <p:spPr>
            <a:xfrm rot="5400000">
              <a:off x="5581440" y="3770280"/>
              <a:ext cx="1774440" cy="35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49" name="_s1030"/>
            <p:cNvSpPr/>
            <p:nvPr/>
          </p:nvSpPr>
          <p:spPr>
            <a:xfrm>
              <a:off x="530280" y="1443240"/>
              <a:ext cx="3599640" cy="161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wstęp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1031"/>
            <p:cNvSpPr/>
            <p:nvPr/>
          </p:nvSpPr>
          <p:spPr>
            <a:xfrm>
              <a:off x="4848480" y="1443240"/>
              <a:ext cx="3600720" cy="1619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szczegółow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_s1032"/>
            <p:cNvSpPr/>
            <p:nvPr/>
          </p:nvSpPr>
          <p:spPr>
            <a:xfrm>
              <a:off x="2689560" y="4025880"/>
              <a:ext cx="3599640" cy="1622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zpoznanie boj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1"/>
              <a:endCxn id="49" idx="3"/>
            </p:cNvCxnSpPr>
            <p:nvPr/>
          </p:nvCxnSpPr>
          <p:spPr>
            <a:xfrm rot="10800000">
              <a:off x="4129200" y="2253960"/>
              <a:ext cx="718920" cy="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wstęp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i gdzie się pali, miejsce pożaru i rodzaj palącego się materiał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występuje zagrożenie dla  ludzi, zwierząt i mienia o szczególnym znaczeni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i jakimi sposobami i środkami  można podjąć gasze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ie jest natężenie pożaru i w jakim kierunku pożar może się rozprzestrzenia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szczegółow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30920" indent="-2570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jakim kierunku pożar się rozprzestrzenia i gdzie występuje największa intensywność spala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bec zagrożenia ludzi – jak można skutecznie udzielić im pomo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występują inne niebezpieczeństwa jak np. wybuchu, zawalenia konstrukcji budowlanej itp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a jest skuteczność prowadzonych działań i czy zgromadzone na miejscu akcji siły i środki są wystarczają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 konieczna jest korekta podjętych działań ratow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ratownicz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e osób znajduje się w zagrożeni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ek zagrożonych i ich stan psychofizyczn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puszczalne miejsca pobytu ludz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 zagroż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wod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jsce zlokalizowania zasobów wod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 zasobów (zbiorniki, cieki lub ujęcia)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as wody lub wydajność punkt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poboru wod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ległość od miejsca pożaru i drogi dojazdu lub dojś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zpoznanie budowla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rozprzestrzeniania się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owanie elementów mogących powstrzymać pożar, podział na strefy pożarow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rność ogniowa elementów konstrukcji i ich obciąże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ład pomieszczeń i dróg komunikacyj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stnienie i możliwość wykorzystania stałych i półstałych elementów ochrony obie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40:21Z</dcterms:created>
  <dc:creator>Marcin Buczek</dc:creator>
  <dc:description/>
  <dc:language>en-US</dc:language>
  <cp:lastModifiedBy>Jacek Dudek</cp:lastModifiedBy>
  <dcterms:modified xsi:type="dcterms:W3CDTF">2020-12-11T10:41:00Z</dcterms:modified>
  <cp:revision>34</cp:revision>
  <dc:subject/>
  <dc:title>SZKOLENIE DOWÓDCÓW OSP</dc:title>
</cp:coreProperties>
</file>