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24F-0384-44BF-BBF7-75A638BF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6BE-CB4A-44F6-9D25-330A4E5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17D-0630-4C91-8A8E-3A78364D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923-9AB7-4B70-8A00-E2E3287E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631-65C2-4F05-AC1B-E11C764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231-6255-4022-8B8A-740436EB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474-7252-4111-BC8D-8670A4B3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BFC-420B-4260-9ABB-DA55ED22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20D-EC85-4F57-B22D-43C743E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156-9185-466E-BB1E-F2148EC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346-8495-4F04-931A-8C9F9DA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11C-B647-4DAE-90EB-99299A6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B65-8FDC-4110-8CAA-AD07A108621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 DOWÓDCÓW OSP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TEMAT 6: Organizacja szkoleń doskonalących w OSP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300280"/>
            <a:ext cx="367164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Robert Łaz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1466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44460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. Ornatowski; J. Figurski: Praktyczna Nauka Zawodu. ITE. Radom 2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ram Nauczania Kwalifikacyjnego Podoficerów Państwowej Straży Pożarnej. KG PSP. Warszawa 200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urs Nauczania Kwalifikacyjnego Szeregowych Państwowej Straży Pożarnej. KG PSP. Warszawa 200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brodziej C. (red.): Podstawy psychologii dla słuchaczy kursu kwalifikacyjnego szeregowych Państwowej Straży Pożarnej. Komenda Główna Państwowej Straży Pożarnej,        Warszawa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brodziej C.(red.): Podstawy pedagogiki i psychologii dla słuchaczy kursu kwalifikacyjnego podoficerów Państwowej Straży Pożarnej. Komenda Główna Państwowej Straży Pożarnej, Warszawa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539640" y="234936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Procesu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lenia w OSP możemy podzielić na szkoleni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walifikacyj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skonaląc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enia kwalifikacyj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realizowane są zgodnie z „Systemem szkolenia członków OSP” zatwierdzonym przez Komendanta Głównego Państwowej Straży Pożarnej. W wyniku ukończenia tego typu szkolenia absolwent uzyskuje uprawnienia do wykonywania czynności ratowniczych określonych program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enia doskonaląc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ają za zadanie ciągłe doskonalenie ratowników OSP w zakresie kompetencji uzyskanych na szkoleniach kwalifikacyjnych, jak również  w zakresie wynikającym z zadań interwencyjnych oraz wyposażenia sprzętowego danej jednostki O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Procesu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rzykładowy scenariusz zajęć teoretycz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soba prowadząc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: 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Temat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el ogóln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ele szczegółowe. Po zakończeniu zajęć ratownik potraf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  ……………………………………………………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 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Metoda szkoleni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(wykład, pogadanka, prelekcja, odczyt, objaśnienie, metoda przypadków, metoda sytuacyjna, pokaz z objaśnieniem, pokaz z instruktażem, ćwiczenia) :…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Forma organizacyjna szkolenia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(indywidualna, grupow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biorowa):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Czas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……………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Środki dydaktyczn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zepisy praw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sze, foliogramy i tablice poglądowe przedstawiające treści określone w scenariuszu zaję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lmy dydaktyczne dotyczące tematu zaję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chniczne środki nauczania (rzutnik pisma, rzutnik multimedialny, komputer, odtwarzacz DVD lub FHS, ekran, telewizor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rzęt ratowniczo –gaśnicz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ochody pożarnicz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Przebieg zaję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FAZA WSTĘP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rawdzenie obecności (c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danie tematu i omówienie celów zajęć (c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FAZA WŁAŚCI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ORMACJE (podawane w formie pytań np.: Jakie akty prawne regulują działalność OSP? (5 m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…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……………………………………………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.. (c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Zakończenie zajęć polegające na podsumowaniu omawianych treści (c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Procesu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kazówki metodyczne do realizacji szkol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nie scenariusza zaję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jęcia teoretyczne  powinny   być   realizowane  w salach dydaktycznych   odpowiadających warunkom higieny szkolnej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wyposażonych zarówno w proste, jak i złożone środki dydak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 zajęciami należy zapoznać uczestników z tematyką i celem zaję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mat szkolenia należy realizować  zgodnie z konspektem zaję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jęcia praktyczne należy prowadzić w grupach 4-8 osob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żdą grupę powinien nadzorować instruktor ćwicz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rakcie ćwiczeń należy prowadzić instruktaż bieżący, który ma na celu natychmiastowe usuwanie usterek zauważonych w trakcie ćwicz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Procesu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7280" y="90792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kazówki metodyczne do realizacji szkol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struktaż końcowy - ma charakter podsumowania zajęć. Może on być prowadzony metodą pogadanki podsumowującej ćwiczenie, podczas, której instruktor sprawdza stopień przyswojenia tematu ćwiczeń i omawia popełnione przez ćwiczących błędy, ewentualnie wskazuje prawidłowe wykonanie ćwicz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wiczenia każdorazowo należy zakończyć czyszczeni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konserwacją użytkowanego sprzę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gadnienia bezpieczeństwa i higieny pracy powinny być zintegrowane tematyką szkol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ocesie nauczania należy określać istniejące i przewidywane zagrożenia oraz wskazywać sposoby bezpiecznego wykonywania zada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lenie może być zakończone kontrolą i oceną. Podstawowymi metodami  kontroli  i oceny wyników nauczania  powinny być pytania ustne, prace pisemne, testy i zadania prak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Procesu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516360" y="6359040"/>
            <a:ext cx="23511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ICT0450"/>
          <p:cNvPicPr/>
          <p:nvPr/>
        </p:nvPicPr>
        <p:blipFill>
          <a:blip r:embed="rId1"/>
          <a:stretch/>
        </p:blipFill>
        <p:spPr>
          <a:xfrm>
            <a:off x="5292720" y="3573360"/>
            <a:ext cx="3456000" cy="2824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 zakończeniu szkolenia prowadzący powinien odpowiedzieć sobie na następujące pytania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właściwie dobrano materiał do tematyki zaję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przekazywane treści były poprawne merytoryczn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dobrze wybrano i wykorzystano środki dydaktycz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trafnie dobrano metody i formy pracy z ratownika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zastosowano metody aktywizujące podczas zaję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tempo pracy było dostosowane d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ości uczestników szkolen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treści zajęć były utrwalo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podsumowa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wykorzystano właściwie czas zaję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prowadzący uzyskał informacj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1000" indent="-17172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rotną od ratowników na temat zaję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ele Szkol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e zaję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ą to spodziewane lub świadomie zakładane efekty szkolenia. Cele mają za zadanie wskazać prowadzącemu zajęcia jakie wiadomości i umiejętności uczestnik szkolenia powinien posiąść w wyniku realizacji treści kształc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potrzeby szkoleń realizowanych w Ochotniczych Strażach Pożarnych możemy wyróżnić dwa rodzaje celów: cele ogólne i cele szczegół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 ogól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el główny nawiązujący do tematu szkolenia. Określa główny zakres i tematykę szkol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cele opracowane na bazie celu głównego określające wiedzę i umiejętności jakie ratownik powinien posiadać po zakończeniu szkol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Środków Dydaktyc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środków dydaktycznych wykorzystywanych w czasie zajęć teoretycznych zalicz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isy praw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nsze, foliogramy i tablice poglądowe przedstawiające treści określone w scenariuszu zaję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kroje i modele sprzętu pożarnicz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owe jednostki sprzętu pożarnicz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ilmy dydaktyczne dotyczące tematu zaję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chniczne środki nauczania (rzutnik pisma, rzutnik multimedialny, komputer, odtwarzacz DVD lub FHS, ekran, telewizo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kumentacja Działalności Szkoleni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42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lność szkoleniowa realizowana w Ochotniczych Strażach Pożarnych powinna być dokumentowa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ację szkoleń można prowadzić na zasadzie dziennika zaję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ennik zajęć prowadzi się chronologicznie według dat realizacji szkol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ennik zajęć zakłada Naczelnik O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ację przebiegu szkolenia stanowią również pisemne prace kontrolne i egzaminacyjne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3:40Z</dcterms:created>
  <dc:creator>Marcin Buczek</dc:creator>
  <dc:description/>
  <dc:language>en-US</dc:language>
  <cp:lastModifiedBy>Jacek Dudek</cp:lastModifiedBy>
  <dcterms:modified xsi:type="dcterms:W3CDTF">2020-12-11T10:42:41Z</dcterms:modified>
  <cp:revision>21</cp:revision>
  <dc:subject/>
  <dc:title>SZKOLENIE  DOWÓDCÓW OSP    TEMAT 6: Organizacja szkoleń doskonalących w OSP </dc:title>
</cp:coreProperties>
</file>