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8229600" cy="22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63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1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1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18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9120" y="1023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ZKOLENIE DOWÓDCÓW OSP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685800" y="32767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EMAT 1: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rganizacja ochrony przeciwpożarow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468360" y="5389560"/>
            <a:ext cx="5410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utor: Piotr P. Bielic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ezentacja: Piotr Heg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7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chotnicze straże pożar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złożone z ludzi dobrowolnie podejmujących społeczny obowiązek służenia w tej formacji, działają w oparciu o przepisy ustawy – Prawo o stowarzyszeni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zczegółowe ich zadania i organizację określa statut OSP i ich związku. Jakkolwiek są to jednostki samorządne, to szereg poczynań z zakresu ochrony przeciwpożarowej musi być uzgadnianych z właściwym terenowo komendantem powiatowym (miejskim) P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nanse jednostek ochrony przeciwpożarowe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szty funkcjonowania jednostek ochrony przeciwpożarowej pokrywane są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budżetu państw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dżetów jednostek samorządu terytorialneg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chodów instytucji ubezpieczeni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e środków włas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szty wyposażenia, utrzymania, wyszkolenia (z wyjątkiem szkoleń prowadzonych nieodpłatnie przez PSP) i zapewnienia gotowości bojowej jednostek OSP ponosi gmina, która ma również obowiąz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-23580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ezpłatnego umundurowania członków OSP (ubrania ochronne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-23580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bezpieczenia członków OSP i drużyn młodzieżow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-23580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noszenia kosztów okresowych badań lekarsk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5640"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dżet państwa uczestniczy w kosztach funkcjonowania jednostek ochrony przeciwpożarowej, jeżeli działają one w ramach krajowego systemu ratowniczo-gaśnicz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nanse jednostek ochrony przeciwpożarow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924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dzór nad funkcjonowaniem związku ochotniczych straży pożarnych, nad ochotniczymi strażami pożarnymi pozostającymi poza strukturami związku OSP, jak i nad formacjami ratowniczymi tworzonymi przez inne organa, instytucje, osoby prawne i fizyczne – sprawują wojewoda bądź staros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prawowanie nadzor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dział strażaków-ochotników w działania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ezpośredni udział w działaniach ratowniczych mogą brać członkowie ochotniczych straży pożarnych, któr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kończyli 18 lat i nie przekroczyli 60 la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siadają zdolność fizyczną i psychiczną do pracy (działania) w tych jednostkach, ocenianą przez lekarza służby medycyny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szkodowan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ażakowi jednostki ochrony przeciwpożarowej, w tym członkowi ochotniczej straży pożarnej, który w związku z udziałem w działaniach ratowniczych lub ćwiczeniach doznał uszczerbku na zdrowiu lub poniósł szkodę w mieniu przysługu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razowe odszkodowanie w razie doznania stałego lub długotrwałego uszczerbku na zdrowi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nta z tytułu całkowitej  lub częściowej niezdolności do prac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szkodowanie z tytułu szkody w mieni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powiednie rekompensaty przysługują też rodzinom poszkodowany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chrona prawn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rażacy jednostek ochrony przeciwpożarowej i członkowie ochotniczych straży pożarnych biorący udział w działaniu ratowniczym lub wykonujący inne zadania związane z ochroną przeciwpożarową (np. przeglądy przeprowadzane przez gminę), korzystają z ochrony przewidzianej w kodeksie karnym dla funkcjonariuszy publi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3504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deks karny – ochrona funkcjonariusza publiczneg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t. 22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Kto narusza nietykalność cielesną funkcjonariusza publicznego lub osoby do pomocy mu przybranej podczas lub w związku z pełnieniem obowiązków służbowych, podlega grzywnie, karze ograniczenia wolności albo pozbawienia wolności do lat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Jeżeli czyn określony 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wywołało niewłaściwe zachowanie się funkcjonariusza lub osoby do pomocy mu przybranej, sąd może zastosować nadzwyczajne złagodzenie kary, a nawet odstąpić od jej wymierz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t. 22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Kto, działając wspólnie i w porozumieniu z innymi osobami lub używając broni palnej, noża lub innego podobnie niebezpiecznego przedmiotu albo środka obezwładniającego, dopuszcza się czynnej napaści na funkcjonariusza publicznego lub osobę do pomocy mu przybraną podczas lub w związku z pełnieniem obowiązków służbowych, podlega każe pozbawienia wolności od roku do lat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deks karny – ochrona funkcjonariusza publicz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kwiwalent pieniężn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łonek OSP uczestniczący w działaniu ratowniczym lub szkoleniu pożarniczym organizowanym przez PSP otrzymuje za każdą przepracowaną godzinę ekwiwalent pieniężny, wypłacany z budżetu gminy do wysokości 1/175 przeciętnego wynagrodzen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kwiwalent ten nie przysługuje jeżeli strażak zachował wynagrodzenie za czas nieobecności w p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dstawowe akty praw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66280" indent="-40320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nstytucja RP z 2 kwietnia 1997 r. – ustawa zasadnicza (Dz.U. z 1997 r. Nr 78 poz. 483 z późn. z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280" indent="-40320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wa z 24 sierpnia 1991 r. o ochronie przeciwpożarowej (t.j. Dz.U. z 2002 r. Nr 147 poz. 1229 z późn. z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280" indent="-40320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wa z 24 sierpnia 1991 r. o Państwowej Straży Pożarnej (t.j. Dz.U. z 2006 r. Nr 96 poz. 667 z późn. z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280" indent="-40320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rządzenie Ministra Spraw Wewnętrznych            i Administracji z dnia 29 grudnia 1999 r. w sprawie szczegółowych zasad organizacji krajowego systemu ratowniczo-gaśniczego (Dz.U. z 1999 r. Nr 111 poz. 13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rajowy System Ratowniczo-Gaśnicz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ajowy system ratowniczo-gaśniczy to integralna część organizacji bezpieczeństwa wewnętrznego państwa, obejmująca szereg przedsięwzięć podejmowanych w celu ratowania życia, zdrowia, mienia lub środowiska, prognozowanie i rozpoznawanie zagrożeń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stem skupia jednostki ochrony przeciwpożarowej, inne służby, inspekcje, straże, instytucje oraz podmioty (organizacje, instytucje, przedsiębiorstwa) które dobrowolnie w drodze umowy cywilno-prawnej zgodziły się współpracować w akcjach ratownicz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1170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 realizację polityki państwa w zakresie ochrony ppoż. i bezpieczeństwa powszechnego odpowiad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inister do spraw wewnętrznych i administra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em administracji rządowej w sprawach organizacji KSRG jest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mendant główny PS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dległy ministrowi do spraw wewnętrznych i administracj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Komendant główny PS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wojewod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008000"/>
                </a:solidFill>
                <a:latin typeface="Arial"/>
              </a:rPr>
              <a:t>starost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a obszarze odpowiednio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 kraj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województ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2400" spc="-1" strike="noStrike">
                <a:solidFill>
                  <a:srgbClr val="008000"/>
                </a:solidFill>
                <a:latin typeface="Arial"/>
              </a:rPr>
              <a:t>powiat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kreślają zadania KSRG, koordynują jego funkcjonowanie i kontrolują wykonywanie wynikających z tym zadań, a w sytuacjach nadzwyczajnych zagrożeń życia, zdrowia, mienia lub środowiska kierują tym system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rajowy System Ratowniczo-Gaśnic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rganizacja KS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ajowy System Ratowniczo-Gaśniczy organizowany jest na trzech pozioma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25704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iatowy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25704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jewódzki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25704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ajowy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ziomie powiatowy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ykonuje się wszystkie podstawowe zadania systemu, związane z obszarem powia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ziom wojewódzki i krajow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pełniają rolę wspomagającą i koordynującą w sytuacjach wymagających użycia sił i środków spoza danego powiatu lub województw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35216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poziomie powiatowym system tworz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menda powiatowa (miejska) PS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stki ochrony przeciwpożarowej mające siedzibę na obszarze powiatu włączone do system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iatowy zespół reagowania kryzys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łączone do systemu inne służby, inspekcje, straże       i instytucj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ecjaliści w sprawach ratownictwa i inne podmioty, włączeni do systemu w drodze umowy cywilnoprawne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rganizacja KS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zynależność jednostek OSP do KS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znaczenie jednostki OSP do systemu następuje w drodze porozumienia pomiędzy właściwym komendantem powiatowym PSP, a podmiotem utrzymującym jednostkę oraz tą jednostk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lość jednostek wchodzących w skład systemu wynika z wojewódzkich planów ratowniczy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ę o włączeniu danej jednostki do systemu wydaje Komendant Główny PSP, na wniosek komendanta wojewódzki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dania KS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dania KSRG zostały sprecyzowane w Rozporządzeniu Ministra Spraw Wewnętrznych i Administracji z dnia 29 grudnia 1999r. w sprawie szczegółowych zasad organizacji krajowego systemu ratowniczo-gaśniczego, i zostały podzielone na poszczególne rodzaje ratownict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zakresie walki  z pożaram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są to  w szczególnoś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znawanie i analizowanie zagrożeń pożarow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cenę rozmiarów powstałego pożaru i prognozowanie jego rozwoj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towanie ludzi i zwierząt przed skutkami zagrożenia pożar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tosowanie sprzętu oraz technik gaśniczych do rodzaju i miejsca pożar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lokalizowanie i ugaszenie poża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62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dania KS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alki z innymi klęskami żywiołowym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bejmuje zespół działań planistyczno-organizacyjnych i działań ratowniczych niezbędnych do ratowania życia, zdrowia i mienia lub środowiska, a także zagrożenia i jego elimin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62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dania KS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atownictwa technic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bejmuje            w szczególnoś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alizowanie awarii oraz katastrof technicz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cenę rozmiarów powstałego zdarzenia                          i prognozowanie jego rozwoj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tosowanie sprzętu oraz wdrożenie technik stosowanych do poszukiwania, uwalniania i ewakuacji poszkodowanych i zagrożonych ludzi oraz zwierząt      w zależności od rodzaju i miejsca zdarze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towania ludzi i zwierząt zagrożonych awarią techniczn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znakowanie i wydzielenie strefy bezpośrednich działań ratowniczych sił systemu oraz stref zagroże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wietrzanie lub wentylowanie stref zagrożenia oraz stref bezpośrednich działań ratownicz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świetlenie oraz zabezpieczenie miejsc zdarzenia przed dostępem osób postron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konywanie przejść i dojść do poszkodowanych lub zagrożonych ludzi i zwierzą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uwanie przeszkód naturalnych i sztucznych utrudniających niesienie pomocy poszkodowanym lub zagrożonym ludziom oraz ratowanie środowisk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pompowywanie, obwałowywanie lub uszczelnianie miejsc wycieku substancji stwarzającej zagroże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3960" indent="-54468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wa z dnia 7 kwietnia 1989 r. Prawo                      o stowarzyszeniach (t.j. Dz.U. z 2001 r. Nr 79 poz. 855 z późn. z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54468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wa z 6 czerwca 1997 r. Kodeks karny (t.j. Dz.U.   z 1997 r. Nr 88 poz. 553 z późn. z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54468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kaz Nr 3/2000 Komendanta Głównego Państwowej Straży Pożarnej z dnia 2 czerwca 2000 r. w sprawie organizacji odwodów operacyjnych Krajowego Systemu Ratowniczo-Gaśnicz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54468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chwała Nr 182/31/2006 Prezydium Zarządu Głównego ZOSP RP z dnia 8 września 2006 r. dotycząca wytycznych w sprawie wyposażenia jednostek operacyjno-technicznych OSP w sprzęt       i niezbędne środki dział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47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dstawowe akty praw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atownictwo chemiczne i ekologicz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bejmuje w szczególnoś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znawanie zagrożeń oraz ocenę i prognozowanie ich rozwoju oraz skutków dla ludzi i środowisk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alizowanie powstałych awarii oraz katastrof chemicznych i ekologicz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atowanie życia ludzi i zwierząt zagrożonych skażeniem substancją niebezpieczn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dentyfikację substancji stwarzającej zagrożenie podczas zdarze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gnozowanie rozwoju skażenia środowiska i ocenę rozmiarów zagrożenia oraz zmian wielkości strefy zagrożenia dla ludz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87624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435600" indent="-2599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tosowanie sprzętu oraz technik ratowniczych do miejsca zdarzenia i rodzaju substancji stwarzającej zagrożeni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pompowywanie i przemieszczanie substancji niebezpiecznej do nowych lub zastępczych zbiornik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wałowanie lub uszczelnianie miejsc wycieku substancji niebezpiecznej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graniczenie parowania substancji niebezpiecznej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trzymanie emisji toksycznych środków przemysłow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wianie kurtyn wod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eutralizację substancji niebezpiecznej substancjami chemicznym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iązywanie substancji niebezpiecznej sorbentam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wianie zapór na ciekach lub obszarach wodnych zagrożonych skutkami rozlania substancji toksycznych hydrofobow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bieranie substancji niebezpiecznej z powierzchni wody lub gle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zakresie organizacji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atownictwa medyc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eżące analizowanie rodzaju i liczby zagrożeń prowadzących do nagłego pogarszania się stanu zdrowia lub groźby utraty życia ludzki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cenę groźby utraty życia ludzkiego lub pogorszenia się stanu zdrowia w wyniku zdarzenia i prognozowanie rozwoju zdarze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stosowanie sprzętu oraz technik niezbędnych do ratowania życia i zdrowia ludzi w zależności od rodzaju  i miejsca zdarzenia oraz liczby poszkodowanych            i zagrożo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ciągłości procesu ratowania poszkodowanych i zagrożonych ludzi na miejscu zdarzenia oraz właściwych procedur przekazywania poszkodowanych kwalifikowanej po-mocy medycznej, wynikających z powiatowych i wojewódzkich planów ratownicz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prowadzenia działań z zakresu ratownictwa medycznego przez osoby posiadające odpowiednie kwalifikac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atownictwo medyczne w warunkach pozaszpitalnyc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 czasie działań ratowniczych prowadzą uprawnieni strażacy oraz ratownicy z innych podmiotów ratowniczych w sytuacj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u kwalifikowanej pomocy medycznej, gdy personel służby zdrowia nie dotarł na miejsce zdarze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u możliwości wykorzystania personelu służby zdrowia na miejscu zdarzenia, gdy dostęp do poszkodowanych jest możliwy tylko dla strażaków-ratowników przy wykorzystaniu sprzętu specjalistyczn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5600" indent="-259920" algn="just">
              <a:lnSpc>
                <a:spcPct val="9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zdarzenie ma cechy nagłego zagrożenia z dużą liczbą poszkodowanych, którego skutki przekraczają możliwości ich opanowania w ramach rutynowej działalności właściwych terytorialnie służb medycz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działaniach z zakresu ratownictwa medycznego       w warunkach pozaszpitalnych uczestniczy koordynator medycznych działań ratowniczych lub inny lekarz, który przybył pierwszy na wezwanie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ekarz koordynujący powinien być oznakowany w sposób widoczny dla innych uczestników działań ratownicz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wody operacyj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wody operacyjne stanowią integralną część systemu logistycznego PS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ołane są do podejmowania długotrwałych                 i obejmujących znaczny obszar działań gaśniczych, gdy występuje potrzeba wzmocnienia sił lokalnych, siłami    z zewnątrz, dysponującymi specjalistycznym sprzę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znaczone są do działań, których rozmiar przekracza interwencyjny poziom kierowania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ramach KSRG został utworzony Centralny Odwó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cyjny (COO) komendanta głównego PSP             o strukturze kompanii i batalionów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lony stały skład sekcji i pluton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lona struktura dowodzenia, wraz z przydzielonymi pojazdam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bilność podczas prowadzenia działań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soka dyscyplina i dobra współpraca wewnątrz pododdział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powiednio zorganizowana struktura i sieć łącz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39640" y="4508640"/>
            <a:ext cx="822960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uteczność użycia sił odwodowych polega na ich znacznie wyższym stopniu organizacji wewnętrznej w stosunku do sił doraźnie kierowanych w rejon zdarz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50920" y="189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doddziały odwodów operacyjnych wyróżnia główn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rganizacja odwodów operacyjny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skład każdego batalionu COO wchodz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mpa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  podstawowe ogniwo odwo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skład kompani wchodz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luton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Organization Chart 0"/>
          <p:cNvGrpSpPr/>
          <p:nvPr/>
        </p:nvGrpSpPr>
        <p:grpSpPr>
          <a:xfrm>
            <a:off x="1447920" y="3539880"/>
            <a:ext cx="5688000" cy="2519280"/>
            <a:chOff x="1447920" y="3539880"/>
            <a:chExt cx="5688000" cy="2519280"/>
          </a:xfrm>
        </p:grpSpPr>
        <p:cxnSp>
          <p:nvCxnSpPr>
            <p:cNvPr id="112" name="_s1028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5014440" y="3676320"/>
              <a:ext cx="583920" cy="1954800"/>
            </a:xfrm>
            <a:prstGeom prst="bentConnector3">
              <a:avLst>
                <a:gd name="adj1" fmla="val 195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2"/>
            </p:cNvCxnSpPr>
            <p:nvPr/>
          </p:nvCxnSpPr>
          <p:spPr>
            <a:xfrm flipH="1" flipV="1" rot="5400000">
              <a:off x="4031640" y="4647960"/>
              <a:ext cx="583920" cy="11880"/>
            </a:xfrm>
            <a:prstGeom prst="bentConnector3">
              <a:avLst>
                <a:gd name="adj1" fmla="val 195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2"/>
            </p:cNvCxnSpPr>
            <p:nvPr/>
          </p:nvCxnSpPr>
          <p:spPr>
            <a:xfrm flipH="1" flipV="1" rot="5400000">
              <a:off x="3023280" y="3640320"/>
              <a:ext cx="583920" cy="2027520"/>
            </a:xfrm>
            <a:prstGeom prst="bentConnector3">
              <a:avLst>
                <a:gd name="adj1" fmla="val 195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1031"/>
            <p:cNvSpPr/>
            <p:nvPr/>
          </p:nvSpPr>
          <p:spPr>
            <a:xfrm>
              <a:off x="2922840" y="3539880"/>
              <a:ext cx="2735280" cy="822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mpania gaśnic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>
              <a:off x="1447920" y="4946400"/>
              <a:ext cx="1706760" cy="111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uton n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1033"/>
            <p:cNvSpPr/>
            <p:nvPr/>
          </p:nvSpPr>
          <p:spPr>
            <a:xfrm>
              <a:off x="3464280" y="4946400"/>
              <a:ext cx="1706400" cy="111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uton nr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>
              <a:off x="5429520" y="4946400"/>
              <a:ext cx="1706400" cy="1112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uton nr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chwała nr 124/22/2005 Prezydium Zarządu Głównego ZOSP RP z dnia 28 czerwca 2005 r. w sprawie normatywnego wyposażenia ratowników ochotniczej straży pożar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dstawowe akty praw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odzaje kompan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aśnicze – przeznaczone do zdarzeń, gdy zachodzi konieczność użycia znacznych ilości zastępów gaśniczych lub znacznej ilości ratowników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ecjalne – przeznaczone do zdarzeń o charakterze technicznym, konfigurowane w zależności od potrzeb jako kompan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chniczne – do likwidowania skutków katastrof budowlanych, komunikacyjnych i infrastruktury technicznej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kologiczne – do usuwania substancji niebezpiecznych, a w szczególności ropopochodnych, z powierzchni rzek i wód stojąc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powania – do usuwania skutków powodzi              i katastrofalnych opadów atmosferycz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odziowe – przeznaczone do ratowania                       i ewakuowania osób oraz mienia na terenach objętych powodzi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ogistyczne – zapewniające wsparcie kwatermistrzowskie sił ratowniczych oraz materiałowo-techniczne działań ratownicz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zkolne – stanowiące pomocnicze formacje centralnego odwodu operacyjnego, konfigurowane w zależności od potrzeb jako kompan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miotowe lub sanitar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ecjalnego przeznaczenia włączane w skład brygad lub batalion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lon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zasy osiągania gotowości operacyjne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ddziałów w miejscach ich koncentracji wynoszą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80 minut dla batalionów CO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90 minut dla kompanii CO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5 minut dla kompanii WO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4600" indent="-265320" algn="just">
              <a:lnSpc>
                <a:spcPct val="100000"/>
              </a:lnSpc>
              <a:spcBef>
                <a:spcPts val="18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5 minut dla specjalistycznych grup ratowniczy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jony koncentracji oddziałów i pododdziałów ustalają właściwi terytorialnie komendanci wojewódzc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iły i środki COO kierowane do działań na terenie danego województwa przekazywane są do dyspozycji właściwego terenowo komendanta wojewódzki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wody operacyjne muszą to być samowystarczalne związki taktyczne, zdolne do prowadzenia działań              w określonym czasie (batalion COO przez 36 godzin, kompania WOO – 12 godz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nika to z założenia, iż nie każde województwo jest przygotowane na przyjęcie sił i środków COO, czy też konieczności stworzenia pełnej samowystarczalności        w przypadku działania poza granicami kraj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11280" y="404640"/>
            <a:ext cx="820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Wykorzyst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9640" y="1413000"/>
            <a:ext cx="83534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ołębowski Wojciech, Zarys prawa i administracji w ochronie przeciwpożarowej. SAPSP Poznań brw.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ajowy System Ratowniczo-Gaśniczy. Ochrona przeciwpożarowa. Zbiór przepisów. Firex Warszawa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sady postępowania ratowniczego 2000. Firex Warszawa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espoły reagowania kryzysowego. Ochrona przeciwpożarowa. Zbiór przepisów. Firex, Warszawa 200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1601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wa z dn. 24 sierpnia 1991r. o ochronie przeciwpożarowej (t.j. Dz.U. z 2002 r. Nr 147 poz. 1229 z późn. z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wa z dn. 24 sierpnia 1991r. o Państwowej Straży Pożarnej (t.j. Dz.U. z 2006 r. Nr 96 poz. 667 z późn. z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wa z 6 czerwca 1997 r. Kodeks karny (t.j. Dz.U.       z 1997 r. Nr 88 poz. 553 z późn. z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rządzenie Rady Ministrów z dnia 2 grudnia 2002 r. w sprawie sposobu tworzenia gminnego zespołu reagowania kryzysowego i wojewódzkiego zespołu reagowania kryzysowego oraz Rządowego Zespołu Koordynacji Kryzysowej i ich funkcjonowania (Dz. U.      z 2002 r. Nr 215 poz. 1818; Dz. U. z 2003 r. Nr 210 poz. 203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Wykorzyst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4000" y="109656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rządzenie Ministra Spraw Wewnętrznych                i Administracji z dnia 29 grudnia 1999 r. w sprawie szczegółowych zasad organizacji krajowego systemu ratowniczo-gaśniczego (Dz.U. z 1999 r. Nr 111 poz. 131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porządzenie Ministra Spraw Wewnętrznych                i   Administracji z dnia 31 lipca 2001 r. w sprawie szczegółowych zasad kierowania i współdziałania jednostek ochrony przeciwpożarowej biorących udział     w działaniu ratowniczym. (Dz.U. 2001 nr 82 poz. 89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chwała nr 182 / 31 / 2006 Prezydium Zarządu Głównego Związku Ochotniczych Straży Pożarnych Rzeczypospolitej Polskiej z dnia 8 września 2006 r. dotycząca „Wytycznych w sprawie wyposażenia jednostek operacyjno-technicznych OSP w sprzęt i środki niezbędne do działań ratowniczych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Wykorzyst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chwała nr 124 / 22 / 2005 Prezydium Zarządu Głównego Związku Ochotniczych Straży Pożarnych Rzeczypospolitej Polskiej z dnia 28 czerwca 2005r.       w sprawie normatywnego wyposażenia ratowników ochotniczych straży pożar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 u="sng">
                <a:solidFill>
                  <a:srgbClr val="000000"/>
                </a:solidFill>
                <a:uFillTx/>
                <a:latin typeface="Arial"/>
              </a:rPr>
              <a:t>Wykorzystan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234936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stytucja R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t. 5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czpospolita Polska strzeże niepodległości                      i nienaruszalności swojego terytorium, zapewnia wolności   i prawa człowieka i obywatela oraz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ezpieczeństwo obywatel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strzeże dziedzictwa narodowego oraz zapewnia ochronę środowiska, kierując się zasadą zrównoważonego rozwoj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stawa o ochronie przeciwpożarowe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t. 1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chrona przeciwpożarowa polega na realizacji przedsięwzięć mających na celu ochronę życia, zdrowia, mienia lub środowiska przed pożarem, klęską żywiołową lub innym miejscowym zagrożeniem poprze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57200" y="364500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obieganie powstawaniu i rozprzestrzenianiu się pożaru, klęski żywiołowej lub innego miejscowego zagroże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sił i środków do zwalczania pożaru, klęski żywiołowej lub innego miejscowego zagroże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adzenie działań ratownicz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stawa o ochronie przeciwpożarowe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t. 15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stkami ochrony przeciwpożarowej s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) jednostki organizacyjne Państwowej Straży Pożarnej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a) jednostki organizacyjne Wojskowej Ochr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ciwpożarowej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) zakładowa straż pożar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) zakładowa służba ratownicz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) gminna zawodowa straż pożar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a) powiatowa (miejska) zawodowa straż pożar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) terenowa służba ratownicz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) ochotnicza straż pożar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7) związek ochotniczych straży pożar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8) inne jednostki ratownic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stawa o PS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) Komenda Główn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) komenda wojewódzk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) komenda powiatowa (miejsk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) Szkoła Główna Służby Pożarniczej oraz pozostał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zkoł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a) powiatowa (miejska) zawodowa straż pożarn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) jednostki badawczo-rozwojow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) Centralne Muzeum Pożarnictw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42720" indent="-342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t. 8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72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nostkami organizacyjnymi Państwowej Straż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272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żarnej s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a. W skład komendy wojewódzkiej mogą wchodzić  ośrodki szkole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.  W skład komendy powiatowej (miejskiej) Państwowej Straży Pożarnej wchodzą jednostki ratowniczo-gaśnic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a. W ramach jednostek ratowniczo-gaśniczych, o których mowa w ust. 2, mogą być wyodrębnione czasowe posterunki Państwowej Straży Pożarnej. Pełnienie służby na czasowym posterunku jest równoznaczne z pełnieniem służby w miejscowości, w której znajduje się dana jednostka ratowniczo-gaśnic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stawa o P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7:40:21Z</dcterms:created>
  <dc:creator>Marcin Buczek</dc:creator>
  <dc:description/>
  <dc:language>en-US</dc:language>
  <cp:lastModifiedBy>Jacek Dudek</cp:lastModifiedBy>
  <dcterms:modified xsi:type="dcterms:W3CDTF">2020-12-11T10:39:34Z</dcterms:modified>
  <cp:revision>52</cp:revision>
  <dc:subject/>
  <dc:title>SZKOLENIE DOWÓDCÓW OSP </dc:title>
</cp:coreProperties>
</file>